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0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4375-586E-41AA-B8E5-3E1526643BBD}" type="datetime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8"/>
          </p:nvPr>
        </p:nvSpPr>
        <p:spPr>
          <a:xfrm>
            <a:off x="388584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DB76-C38E-4D9C-A5E5-D4315AB74E8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più ampia nozione di riciclaggio si riflette su una più ampia nozione di operazione sospetta. Per ritenere sussistenti gli estremi di questa occorre verificare che gli elementi oggettivi e soggettivi di anomalia che la caratterizzano siano stati valutati…Infatti ogni segnalazione deve contenere oltre alla descrizione delle anomalie e del contesto di riferimento anche i motivi del sospetto, ossia l’iter logico deduttivo seguito dal segnala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Una recente novità riguarda l’aggiunta all’art. 41 di un indicatore di anomalia “atipico”…in attesa di istruzioni interpretative….logica sottesa al sistema di complessiva valutazio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niamo quindi agli indicatori di anomalia. Possiamo definirli come degli allarmi circa le anomalie ogg e sogg dell’operatività, intesa sia come operazioni sia come complessivo comportamento del soggetto che la compie. La funzione è quella di mero ausilio….no esaustività, no tassatività…Occorre valutare tutti gli elementi disponibil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segnalazione come risultato di un processo valutativo….si tratta di una valutazione tecnica, vincolata a parametri definiti a livello normativo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Nel razionalizzare gli indicatori, si è fatta distinzione tra quelli afferenti al cliente e quelli attinenti alle operazioni…Indicatori generali e specifici. Macro e sub ind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i sono delle novità che riflettono le nuove tendenze: oltre al contante, al frazionamento e all’interposizione ci sono il concetto di paese a rischio, l’utilizzo di veicoli societari schermo, le operazioni di finanza strutturata, i money transfer, il finanziamento del terrorismo, l’abuso di organismi non profit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Una delle novità del 231 sono i modelli e schemi di comprotamento anomalo, ossia delle tipologie di operatività riconducbile a ….elaborate dalla UIF sulla scorta dell’esperienza maturata…prassi….tipologie del GAF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l momento sul sito sono pubblicati 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l primo è stato il modello imprese in crisi, che traendo lo spunto dall’attuale congiuntura di crisi finanziaria si è focalizzato sulle operatività di imprese che, a causa della loro debolezza economica e finanziaria, possono essere facilmente aggredite dalla criminalità, anche mediante il ricorso a prestiti illega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ruciale da parte degli operatori è il monitoraggio degli assetti proprietari e la congruenza dell’operatività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l corretto adempimento degli obblighi di segnalazione viene assicurato anche grazie all’esercizio del potere normativo della UIF…art. 54…Indicazioni aggiornate circa le prassi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segnalazione ha in sé diversi aspetti di criticità per i soggetti obbligati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er  accertare i casi di omessa segnalazione, la UIF verifica che ricorrano gli elementi che dicevamo prima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40D2B-3EA6-4059-BA30-D9E34888C0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E2D6E-5989-43A2-8D8E-245848BC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0C4D4-B376-4B59-8D05-219D5A13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988B4-AB72-4AF1-A383-23C37A906B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3A8E9-848A-4732-B43B-1B49503B4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95F3A4-75B9-4E8E-A8E6-29AA90FF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C6304-E95E-4170-8F61-B11567E6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4D8439-5E9E-48DD-BF9A-B849EB91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5B8397-F45C-4135-BB82-6B2DDAE8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1337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9D2DB-6908-42A0-8668-2215F76E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053420-6402-4CA9-8184-EA9AF31C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0DC3A-FD01-4BF8-AEED-B0F7E160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0D6678-54D6-4FBD-B9EA-CFD82005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F4E40-9CC1-45E8-BD6F-08EFCF96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AD2A7C-4C7B-4602-B88E-5100DA69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CA040-49C1-4F41-96C7-D42F317E7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4F237-D761-4532-972C-047153AEF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760BA-11B6-434B-A460-34BBD6BE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71F26-479C-43AC-82F9-9D89C2EF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7C1B0-D997-43BC-9644-5A85CC7B5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1337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CB25C-69FD-477F-A166-6AE24B2FC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AA705-C3CC-4782-BA53-F4C671C9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05D92-50FF-4B48-B461-B18E998A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36400-D715-4FC6-AA2B-DCE38E2C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it-IT" sz="10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BF3C-2EB9-44F7-973C-344205D48060}" type="slidenum">
              <a:rPr b="1" i="1" lang="it-IT" sz="10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-422280"/>
            <a:ext cx="9144000" cy="72802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 flipH="1" flipV="1">
            <a:off x="178920" y="-171720"/>
            <a:ext cx="503280" cy="6840360"/>
          </a:xfrm>
          <a:prstGeom prst="rect">
            <a:avLst/>
          </a:prstGeom>
          <a:solidFill>
            <a:srgbClr val="3366cc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cc"/>
                </a:solidFill>
                <a:latin typeface="Bookman Old Style"/>
              </a:rPr>
              <a:t>U I F</a:t>
            </a:r>
            <a:r>
              <a:rPr b="1" lang="it-IT" sz="1000" spc="-1" strike="noStrike">
                <a:solidFill>
                  <a:srgbClr val="ffffcc"/>
                </a:solidFill>
                <a:latin typeface="Baskerville Old Face"/>
              </a:rPr>
              <a:t>    </a:t>
            </a:r>
            <a:r>
              <a:rPr b="1" i="1" lang="it-IT" sz="1000" spc="-1" strike="noStrike">
                <a:solidFill>
                  <a:srgbClr val="ffffcc"/>
                </a:solidFill>
                <a:latin typeface="Bookman Old Style"/>
              </a:rPr>
              <a:t>Unità di Informazione Finanziaria</a:t>
            </a:r>
            <a:r>
              <a:rPr b="1" i="1" lang="it-IT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755640" y="6381720"/>
            <a:ext cx="1440000" cy="285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228600" y="2971800"/>
            <a:ext cx="914868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6279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7A2F-50E3-4CBD-BE5F-10C4A3349EBE}" type="slidenum">
              <a:rPr b="0" lang="it-IT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mailto:alessandra.cuzzocrea@bancaditalia.it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640" y="115560"/>
            <a:ext cx="7704000" cy="14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42920" y="404280"/>
            <a:ext cx="7345440" cy="461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0000"/>
                </a:solidFill>
                <a:latin typeface="Garamond"/>
              </a:rPr>
              <a:t>Ordine Consulenti del Lavoro della Provincia di Taranto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cc"/>
                </a:solidFill>
                <a:latin typeface="Garamond"/>
              </a:rPr>
              <a:t>Intervento dell’Unità di Informazione Finanziaria presso la Banca d’Italia</a:t>
            </a:r>
            <a:endParaRPr b="0" lang="en-US" sz="14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cc"/>
                </a:solidFill>
                <a:latin typeface="Garamond"/>
              </a:rPr>
              <a:t>Divisione Normativa e Rapporti Istituzionali</a:t>
            </a:r>
            <a:endParaRPr b="0" lang="en-US" sz="14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cc"/>
                </a:solidFill>
                <a:latin typeface="Garamond"/>
              </a:rPr>
              <a:t>dr.ssa Alessandra Cuzzocrea</a:t>
            </a:r>
            <a:endParaRPr b="0" lang="en-US" sz="1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0033"/>
                </a:solidFill>
                <a:latin typeface="Garamond"/>
              </a:rPr>
              <a:t>Il quadro normativo in materia di prevenzione e contrasto del riciclaggio e del finanziamento del terrorismo.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0033"/>
                </a:solidFill>
                <a:latin typeface="Garamond"/>
              </a:rPr>
              <a:t>Gli obblighi a carico dei Professionisti con particolare riguardo alla segnalazione di operazioni sospett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84360" y="5445000"/>
            <a:ext cx="44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99"/>
                </a:solidFill>
                <a:latin typeface="Times New Roman"/>
              </a:rPr>
              <a:t>Taranto – 19 giugno 201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769080" cy="66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33"/>
                </a:solidFill>
                <a:latin typeface="Arial"/>
              </a:rPr>
              <a:t>Prevenzione e ruolo della UIF </a:t>
            </a:r>
            <a:br>
              <a:rPr sz="2800"/>
            </a:b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02920" y="1052640"/>
            <a:ext cx="6985080" cy="54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7840" indent="0" algn="just">
              <a:lnSpc>
                <a:spcPct val="10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c00000"/>
                </a:solidFill>
                <a:latin typeface="Arial"/>
              </a:rPr>
              <a:t>Gli altri presidi antiriciclaggio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177840" indent="-177840" algn="just">
              <a:lnSpc>
                <a:spcPct val="105000"/>
              </a:lnSpc>
              <a:spcBef>
                <a:spcPts val="1125"/>
              </a:spcBef>
              <a:buClr>
                <a:srgbClr val="8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Adeguata verifica e astensione (novità del d.lgs. 231/07)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177840" indent="-177840" algn="just">
              <a:lnSpc>
                <a:spcPct val="105000"/>
              </a:lnSpc>
              <a:spcBef>
                <a:spcPts val="1125"/>
              </a:spcBef>
              <a:buClr>
                <a:srgbClr val="8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Registrazione (con varie alternative)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177840" indent="-177840" algn="just">
              <a:lnSpc>
                <a:spcPct val="105000"/>
              </a:lnSpc>
              <a:spcBef>
                <a:spcPts val="1125"/>
              </a:spcBef>
              <a:buClr>
                <a:srgbClr val="8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Limiti all’utilizzo del contante e dei titoli al portatore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177840" indent="0" algn="just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177840" indent="0" algn="just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i="1" lang="it-IT" sz="1600" spc="-1" strike="noStrike">
                <a:solidFill>
                  <a:srgbClr val="010000"/>
                </a:solidFill>
                <a:latin typeface="Arial"/>
              </a:rPr>
              <a:t>La UIF, a differenza dell’UIC, non ha competenza in materia di obblighi di adeguata verifica e di registrazione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177840" indent="0" algn="just">
              <a:lnSpc>
                <a:spcPct val="10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177840" indent="0" algn="just">
              <a:lnSpc>
                <a:spcPct val="10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c00000"/>
                </a:solidFill>
                <a:latin typeface="Arial"/>
              </a:rPr>
              <a:t>La situazione attuale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177840" indent="-177840" algn="just">
              <a:lnSpc>
                <a:spcPct val="105000"/>
              </a:lnSpc>
              <a:spcBef>
                <a:spcPts val="1125"/>
              </a:spcBef>
              <a:buClr>
                <a:srgbClr val="8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Carenze di poteri o ritardi nella normativa di attuazione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177840" indent="-177840" algn="just">
              <a:lnSpc>
                <a:spcPct val="105000"/>
              </a:lnSpc>
              <a:spcBef>
                <a:spcPts val="1125"/>
              </a:spcBef>
              <a:buClr>
                <a:srgbClr val="8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Intervento di alcuni Ordini professionali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3"/>
          <p:cNvSpPr/>
          <p:nvPr/>
        </p:nvSpPr>
        <p:spPr>
          <a:xfrm>
            <a:off x="539640" y="260280"/>
            <a:ext cx="82296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81378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33"/>
                </a:solidFill>
                <a:latin typeface="Arial"/>
              </a:rPr>
              <a:t>La collaborazione con le Autorità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9" name=""/>
          <p:cNvSpPr/>
          <p:nvPr/>
        </p:nvSpPr>
        <p:spPr>
          <a:xfrm>
            <a:off x="900000" y="1052640"/>
            <a:ext cx="806472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 algn="just">
              <a:lnSpc>
                <a:spcPct val="100000"/>
              </a:lnSpc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Sinergie e complementarità nel rapporto UIF/Bankitalia</a:t>
            </a:r>
            <a:r>
              <a:rPr b="1" lang="it-IT" sz="16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marL="444600" indent="-444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444600" indent="-444600" algn="just">
              <a:lnSpc>
                <a:spcPct val="100000"/>
              </a:lnSpc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Coordinamento con gli organi investigativi (NSPV- DIA)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444600" indent="-444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444600" indent="-444600" algn="just">
              <a:lnSpc>
                <a:spcPct val="100000"/>
              </a:lnSpc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Collaborazione con l’A.G. (consulenza istituzionale)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444600" indent="-444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444600" indent="-444600" algn="just">
              <a:lnSpc>
                <a:spcPct val="100000"/>
              </a:lnSpc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Collaborazione con gli </a:t>
            </a:r>
            <a:r>
              <a:rPr b="1" lang="it-IT" sz="2000" spc="-1" strike="noStrike">
                <a:solidFill>
                  <a:srgbClr val="c80000"/>
                </a:solidFill>
                <a:latin typeface="Arial"/>
              </a:rPr>
              <a:t>Ordini professionali </a:t>
            </a: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(recenti tendenze anche in ambito GAFI a evitare ruolo di filtro o sovrapposizione rispetto alle autorità negli accertamenti e nei controlli); ruolo di formazione, indicatori di anomali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444600" indent="-444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444600" indent="-444600" algn="just">
              <a:lnSpc>
                <a:spcPct val="100000"/>
              </a:lnSpc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Collaborazione internazionale (normativa e operativa)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444600" indent="-444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i="1" lang="it-IT" sz="1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i="1" lang="it-IT" sz="1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i="1" lang="it-IT" sz="1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i="1" lang="it-IT" sz="1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i="1" lang="it-IT" sz="1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i="1" lang="it-IT" sz="16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marL="444600" indent="-444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i="1" lang="it-IT" sz="1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i="1" lang="it-IT" sz="1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i="1" lang="it-IT" sz="1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i="1" lang="it-IT" sz="1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i="1" lang="it-IT" sz="1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i="1" lang="it-IT" sz="1600" spc="-1" strike="noStrike">
                <a:solidFill>
                  <a:srgbClr val="010000"/>
                </a:solidFill>
                <a:latin typeface="Arial"/>
              </a:rPr>
              <a:t>(art. 9 d.lgs. 231/07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3"/>
          <p:cNvSpPr/>
          <p:nvPr/>
        </p:nvSpPr>
        <p:spPr>
          <a:xfrm>
            <a:off x="539640" y="260280"/>
            <a:ext cx="82296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81378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33"/>
                </a:solidFill>
                <a:latin typeface="Arial"/>
              </a:rPr>
              <a:t>La collaborazione con l’A.G. 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2" name=""/>
          <p:cNvSpPr/>
          <p:nvPr/>
        </p:nvSpPr>
        <p:spPr>
          <a:xfrm>
            <a:off x="900000" y="1052640"/>
            <a:ext cx="8064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0000"/>
                </a:solidFill>
                <a:latin typeface="Arial"/>
              </a:rPr>
              <a:t>SEGRETO D’UFFICIO E RISERVATEZZ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444600" indent="-444600" algn="just">
              <a:lnSpc>
                <a:spcPct val="100000"/>
              </a:lnSpc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444600" indent="-444600" algn="just">
              <a:lnSpc>
                <a:spcPct val="100000"/>
              </a:lnSpc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Le informazioni in possesso dell’UIF sono coperte dal </a:t>
            </a:r>
            <a:r>
              <a:rPr b="1" lang="it-IT" sz="2000" spc="-1" strike="noStrike">
                <a:solidFill>
                  <a:srgbClr val="ff0909"/>
                </a:solidFill>
                <a:latin typeface="Arial"/>
              </a:rPr>
              <a:t>segreto d’ufficio</a:t>
            </a: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. Il segreto non può essere opposto all’A.G. quando le informazioni richieste siano necessarie per le indagini o i procedimenti penali  (art. 9, co.1).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444600" indent="-444600" algn="just">
              <a:lnSpc>
                <a:spcPct val="100000"/>
              </a:lnSpc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444600" indent="-444600" algn="just">
              <a:lnSpc>
                <a:spcPct val="100000"/>
              </a:lnSpc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L’A.G. informa l’UIF quando ha fondato motivo di ritenere che il riciclaggio sia avvenuto attraverso operazioni effettuate tramite intermediari… la UIF comunica all’A.G. le iniziative assunte (art. 9, co. 7)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444600" indent="-444600" algn="just">
              <a:lnSpc>
                <a:spcPct val="100000"/>
              </a:lnSpc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444600" indent="-444600" algn="just">
              <a:lnSpc>
                <a:spcPct val="100000"/>
              </a:lnSpc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Tutela della </a:t>
            </a:r>
            <a:r>
              <a:rPr b="1" lang="it-IT" sz="2000" spc="-1" strike="noStrike">
                <a:solidFill>
                  <a:srgbClr val="ff0909"/>
                </a:solidFill>
                <a:latin typeface="Arial"/>
              </a:rPr>
              <a:t>riservatezza dell’identità del segnalante</a:t>
            </a: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, salvo decreto motivato dell’A.G. (art. 45, co.7)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444600" indent="-444600" algn="just">
              <a:lnSpc>
                <a:spcPct val="100000"/>
              </a:lnSpc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444600" indent="-444600" algn="just">
              <a:lnSpc>
                <a:spcPct val="100000"/>
              </a:lnSpc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Collaborazione con gli organi delle indagini (art. 9, co. 10)→ </a:t>
            </a:r>
            <a:r>
              <a:rPr b="1" lang="it-IT" sz="2000" spc="-1" strike="noStrike">
                <a:solidFill>
                  <a:srgbClr val="ff0909"/>
                </a:solidFill>
                <a:latin typeface="Arial"/>
              </a:rPr>
              <a:t>consulenza istituzionale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444600" indent="-444600" algn="just">
              <a:lnSpc>
                <a:spcPct val="100000"/>
              </a:lnSpc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444600" indent="-444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632720" y="2852640"/>
            <a:ext cx="1332000" cy="86544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87280" y="4653000"/>
            <a:ext cx="1872000" cy="151272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00000" y="2349360"/>
            <a:ext cx="2376720" cy="187164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16000" y="2637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10000"/>
                </a:solidFill>
                <a:latin typeface="Times New Roman"/>
              </a:rPr>
              <a:t>UIF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3213000"/>
            <a:ext cx="302400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10000"/>
                </a:solidFill>
                <a:latin typeface="Times New Roman"/>
              </a:rPr>
              <a:t>Funzionalment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10000"/>
                </a:solidFill>
                <a:latin typeface="Times New Roman"/>
              </a:rPr>
              <a:t>autonoma e indipendent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24720" y="306864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10000"/>
                </a:solidFill>
                <a:latin typeface="Times New Roman"/>
              </a:rPr>
              <a:t>Parlamento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58920" y="4869000"/>
            <a:ext cx="172872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10000"/>
                </a:solidFill>
                <a:latin typeface="Times New Roman"/>
              </a:rPr>
              <a:t>Banca d’Itali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10000"/>
                </a:solidFill>
                <a:latin typeface="Times New Roman"/>
              </a:rPr>
              <a:t>Conferisc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10000"/>
                </a:solidFill>
                <a:latin typeface="Times New Roman"/>
              </a:rPr>
              <a:t>personale e mezzi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10000"/>
                </a:solidFill>
                <a:latin typeface="Times New Roman"/>
              </a:rPr>
              <a:t>Definisce con regolamento organizzazione e funzionamento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124000" y="4221000"/>
            <a:ext cx="0" cy="43200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11640" y="1341360"/>
            <a:ext cx="0" cy="165600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59280" y="5589720"/>
            <a:ext cx="115236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4211640" y="3500280"/>
            <a:ext cx="0" cy="208944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11640" y="4221000"/>
            <a:ext cx="144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010000"/>
                </a:solidFill>
                <a:latin typeface="Times New Roman"/>
              </a:rPr>
              <a:t>Relazione sui mezzi finanziari e le risorse attribuite alla UIF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58920" y="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660033"/>
                </a:solidFill>
                <a:latin typeface="Arial"/>
              </a:rPr>
              <a:t>Accountability</a:t>
            </a:r>
            <a:r>
              <a:rPr b="1" lang="it-IT" sz="2800" spc="-1" strike="noStrike">
                <a:solidFill>
                  <a:srgbClr val="660033"/>
                </a:solidFill>
                <a:latin typeface="Arial"/>
              </a:rPr>
              <a:t> della UIF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765000"/>
            <a:ext cx="1872000" cy="115416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58920" y="907920"/>
            <a:ext cx="172872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10000"/>
                </a:solidFill>
                <a:latin typeface="Times New Roman"/>
              </a:rPr>
              <a:t>Comitato di esperti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10000"/>
                </a:solidFill>
                <a:latin typeface="Times New Roman"/>
              </a:rPr>
              <a:t>Collabora per l’efficace svolgimento dei compiti istituzionali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24000" y="1916280"/>
            <a:ext cx="0" cy="433080"/>
          </a:xfrm>
          <a:prstGeom prst="line">
            <a:avLst/>
          </a:prstGeom>
          <a:ln w="2844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48000" y="2852640"/>
            <a:ext cx="1511280" cy="792360"/>
          </a:xfrm>
          <a:prstGeom prst="rightArrow">
            <a:avLst>
              <a:gd name="adj1" fmla="val 69139"/>
              <a:gd name="adj2" fmla="val 49705"/>
            </a:avLst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10000"/>
                </a:solidFill>
                <a:latin typeface="Times New Roman"/>
              </a:rPr>
              <a:t>Rapporto annual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10000"/>
                </a:solidFill>
                <a:latin typeface="Times New Roman"/>
              </a:rPr>
              <a:t>(entro il 30 maggio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59280" y="1341360"/>
            <a:ext cx="1152360" cy="0"/>
          </a:xfrm>
          <a:prstGeom prst="line">
            <a:avLst/>
          </a:prstGeom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11640" y="162864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010000"/>
                </a:solidFill>
                <a:latin typeface="Times New Roman"/>
              </a:rPr>
              <a:t>Parere sull’azione della UIF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59280" y="2781360"/>
            <a:ext cx="1513080" cy="93492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10000"/>
                </a:solidFill>
                <a:latin typeface="Times New Roman"/>
              </a:rPr>
              <a:t>Ministro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10000"/>
                </a:solidFill>
                <a:latin typeface="Times New Roman"/>
              </a:rPr>
              <a:t>dell’economia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43640" y="2997360"/>
            <a:ext cx="1152720" cy="576000"/>
          </a:xfrm>
          <a:prstGeom prst="rightArrow">
            <a:avLst>
              <a:gd name="adj1" fmla="val 50000"/>
              <a:gd name="adj2" fmla="val 50031"/>
            </a:avLst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10000"/>
                </a:solidFill>
                <a:latin typeface="Times New Roman"/>
              </a:rPr>
              <a:t>Entro il 30 giugno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042920" y="234936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33"/>
                </a:solidFill>
                <a:latin typeface="Times New Roman"/>
              </a:rPr>
              <a:t>La segnalazione di operazione sospetta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33"/>
                </a:solidFill>
                <a:latin typeface="Times New Roman"/>
              </a:rPr>
              <a:t>presupposti e criteri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799308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0033"/>
                </a:solidFill>
                <a:latin typeface="Arial"/>
              </a:rPr>
              <a:t>Nozione amministrativa di riciclaggio </a:t>
            </a:r>
            <a:r>
              <a:rPr b="1" lang="it-IT" sz="1600" spc="-1" strike="noStrike">
                <a:solidFill>
                  <a:srgbClr val="660033"/>
                </a:solidFill>
                <a:latin typeface="Arial"/>
              </a:rPr>
              <a:t>(3^ direttiva)</a:t>
            </a:r>
            <a:endParaRPr b="1" lang="en-US" sz="1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71640" y="1125360"/>
            <a:ext cx="7632720" cy="360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497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Costituiscono riciclaggio le seguenti azioni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497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71640" y="1700280"/>
            <a:ext cx="7272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c8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c80000"/>
                </a:solidFill>
                <a:uFillTx/>
                <a:latin typeface="Arial"/>
              </a:rPr>
              <a:t>conversione o trasferimento</a:t>
            </a:r>
            <a:r>
              <a:rPr b="1" lang="it-IT" sz="2000" spc="-1" strike="noStrike">
                <a:solidFill>
                  <a:srgbClr val="ff0909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di beni per occultare o dissimulare l'origine illecita;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1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80000"/>
                </a:solidFill>
                <a:latin typeface="Arial"/>
              </a:rPr>
              <a:t>b)</a:t>
            </a: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it-IT" sz="2000" spc="-1" strike="noStrike" u="sng">
                <a:solidFill>
                  <a:srgbClr val="c80000"/>
                </a:solidFill>
                <a:uFillTx/>
                <a:latin typeface="Arial"/>
              </a:rPr>
              <a:t>occultamento o dissimulazione</a:t>
            </a:r>
            <a:r>
              <a:rPr b="1" lang="it-IT" sz="2000" spc="-1" strike="noStrike" u="sng">
                <a:solidFill>
                  <a:srgbClr val="ff0909"/>
                </a:solidFill>
                <a:uFillTx/>
                <a:latin typeface="Arial"/>
              </a:rPr>
              <a:t> </a:t>
            </a: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di reale natura, provenienza, ubicazione, disposizione, movimento, proprietà dei beni o dei diritti sugli stessi;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c8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c80000"/>
                </a:solidFill>
                <a:uFillTx/>
                <a:latin typeface="Arial"/>
              </a:rPr>
              <a:t>acquisto, detenzione o utilizzazione</a:t>
            </a:r>
            <a:r>
              <a:rPr b="1" lang="it-IT" sz="2000" spc="-1" strike="noStrike" u="sng">
                <a:solidFill>
                  <a:srgbClr val="ff0909"/>
                </a:solidFill>
                <a:uFillTx/>
                <a:latin typeface="Arial"/>
              </a:rPr>
              <a:t> </a:t>
            </a: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di beni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9999"/>
                </a:solidFill>
                <a:latin typeface="Arial"/>
                <a:ea typeface="Arial"/>
              </a:rPr>
              <a:t>▄</a:t>
            </a:r>
            <a:r>
              <a:rPr b="0" lang="it-IT" sz="2000" spc="-1" strike="noStrike">
                <a:solidFill>
                  <a:srgbClr val="009999"/>
                </a:solidFill>
                <a:latin typeface="Arial"/>
                <a:ea typeface="Arial"/>
              </a:rPr>
              <a:t>	</a:t>
            </a:r>
            <a:r>
              <a:rPr b="0" lang="it-IT" sz="2000" spc="-1" strike="noStrike">
                <a:solidFill>
                  <a:srgbClr val="009999"/>
                </a:solidFill>
                <a:latin typeface="Arial"/>
                <a:ea typeface="Arial"/>
              </a:rPr>
              <a:t> ▄</a:t>
            </a:r>
            <a:r>
              <a:rPr b="0" lang="it-IT" sz="2000" spc="-1" strike="noStrike">
                <a:solidFill>
                  <a:srgbClr val="009999"/>
                </a:solidFill>
                <a:latin typeface="Arial"/>
                <a:ea typeface="Arial"/>
              </a:rPr>
              <a:t>	</a:t>
            </a:r>
            <a:r>
              <a:rPr b="0" lang="it-IT" sz="2000" spc="-1" strike="noStrike">
                <a:solidFill>
                  <a:srgbClr val="009999"/>
                </a:solidFill>
                <a:latin typeface="Arial"/>
                <a:ea typeface="Arial"/>
              </a:rPr>
              <a:t> ▄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63640" y="4724280"/>
            <a:ext cx="7056360" cy="1191240"/>
          </a:xfrm>
          <a:prstGeom prst="rect">
            <a:avLst/>
          </a:prstGeom>
          <a:solidFill>
            <a:srgbClr val="f1e3fd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buClr>
                <a:srgbClr val="01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se commesse intenzionalmente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buClr>
                <a:srgbClr val="01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se sussiste conoscenza che i beni provengono da attività criminosa (comprese contravvenzioni), anche se propria (autoriciclaggio)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08360" y="6093000"/>
            <a:ext cx="525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10000"/>
                </a:solidFill>
                <a:latin typeface="Arial"/>
              </a:rPr>
              <a:t>(Art. 2, comma 1, lett. a), b) e c) d.lgs. n. 231/2007)</a:t>
            </a:r>
            <a:br>
              <a:rPr sz="1400"/>
            </a:b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340000" y="4797360"/>
            <a:ext cx="4105080" cy="1081080"/>
          </a:xfrm>
          <a:prstGeom prst="rightArrow">
            <a:avLst>
              <a:gd name="adj1" fmla="val 50000"/>
              <a:gd name="adj2" fmla="val 94930"/>
            </a:avLst>
          </a:prstGeom>
          <a:solidFill>
            <a:srgbClr val="ffff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40000" y="3500280"/>
            <a:ext cx="4103640" cy="1152720"/>
          </a:xfrm>
          <a:prstGeom prst="rightArrow">
            <a:avLst>
              <a:gd name="adj1" fmla="val 50000"/>
              <a:gd name="adj2" fmla="val 88999"/>
            </a:avLst>
          </a:prstGeom>
          <a:solidFill>
            <a:srgbClr val="ffff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40000" y="2205000"/>
            <a:ext cx="4103640" cy="1152720"/>
          </a:xfrm>
          <a:prstGeom prst="rightArrow">
            <a:avLst>
              <a:gd name="adj1" fmla="val 50000"/>
              <a:gd name="adj2" fmla="val 88999"/>
            </a:avLst>
          </a:prstGeom>
          <a:solidFill>
            <a:srgbClr val="ffff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40000" y="1052640"/>
            <a:ext cx="2879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3399"/>
                </a:solidFill>
                <a:latin typeface="Arial"/>
              </a:rPr>
              <a:t>SOGGETTI OBBLIGATI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27280" y="2637000"/>
            <a:ext cx="27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99"/>
                </a:solidFill>
                <a:latin typeface="Arial"/>
              </a:rPr>
              <a:t>INTERMEDIARI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56000" y="3933720"/>
            <a:ext cx="27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99"/>
                </a:solidFill>
                <a:latin typeface="Arial"/>
              </a:rPr>
              <a:t>PROFESSIONISTI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627280" y="5157720"/>
            <a:ext cx="27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99"/>
                </a:solidFill>
                <a:latin typeface="Arial"/>
              </a:rPr>
              <a:t>SOGGETTI NON FINANZIARI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18440" y="235080"/>
            <a:ext cx="184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93080" y="2492280"/>
            <a:ext cx="1158840" cy="30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10000"/>
                </a:solidFill>
                <a:latin typeface="Arial"/>
              </a:rPr>
              <a:t>dal 1991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10000"/>
                </a:solidFill>
                <a:latin typeface="Arial"/>
              </a:rPr>
              <a:t>dal 2004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10000"/>
                </a:solidFill>
                <a:latin typeface="Arial"/>
              </a:rPr>
              <a:t>dal 2004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51640" y="765000"/>
            <a:ext cx="34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480" indent="-87480">
              <a:lnSpc>
                <a:spcPct val="100000"/>
              </a:lnSpc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10000"/>
                </a:solidFill>
                <a:latin typeface="Arial"/>
              </a:rPr>
              <a:t>Ampliamento progressivo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10000"/>
                </a:solidFill>
                <a:latin typeface="Arial"/>
              </a:rPr>
              <a:t>Cultura della legalità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10000"/>
                </a:solidFill>
                <a:latin typeface="Arial"/>
              </a:rPr>
              <a:t>Dovere di </a:t>
            </a:r>
            <a:r>
              <a:rPr b="0" lang="it-IT" sz="1800" spc="-1" strike="noStrike">
                <a:solidFill>
                  <a:srgbClr val="800000"/>
                </a:solidFill>
                <a:latin typeface="Arial"/>
              </a:rPr>
              <a:t>collaborazione attiva</a:t>
            </a:r>
            <a:r>
              <a:rPr b="0" lang="it-IT" sz="1800" spc="-1" strike="noStrike">
                <a:solidFill>
                  <a:srgbClr val="010000"/>
                </a:solidFill>
                <a:latin typeface="Arial"/>
              </a:rPr>
              <a:t> con i pubblici poteri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3320" y="6186600"/>
            <a:ext cx="21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010000"/>
                </a:solidFill>
                <a:latin typeface="Arial"/>
              </a:rPr>
              <a:t>(Artt. 10-14 d.lgs. 231/2007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515880" y="333360"/>
            <a:ext cx="82296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16000" y="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33"/>
                </a:solidFill>
                <a:latin typeface="Arial"/>
              </a:rPr>
              <a:t>I soggetti obbligati (2)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755640" y="620640"/>
            <a:ext cx="8209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10000"/>
                </a:solidFill>
                <a:latin typeface="Times New Roman"/>
              </a:rPr>
              <a:t>Professionisti indipendenti e revisori contabili </a:t>
            </a:r>
            <a:r>
              <a:rPr b="0" lang="it-IT" sz="1600" spc="-1" strike="noStrike">
                <a:solidFill>
                  <a:srgbClr val="010000"/>
                </a:solidFill>
                <a:latin typeface="Times New Roman"/>
              </a:rPr>
              <a:t>(dal 2004 - d.lgs. n. 56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1187280" y="1700280"/>
            <a:ext cx="7488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8200" indent="-26820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10000"/>
                </a:solidFill>
                <a:latin typeface="Times New Roman"/>
                <a:ea typeface="ＭＳ Ｐゴシック"/>
              </a:rPr>
              <a:t>Iscritti albo dottori commercialisti ed esperti contabili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marL="268200" indent="-268200">
              <a:lnSpc>
                <a:spcPct val="80000"/>
              </a:lnSpc>
              <a:spcBef>
                <a:spcPts val="2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99"/>
              </a:solidFill>
              <a:latin typeface="Times New Roman"/>
            </a:endParaRPr>
          </a:p>
          <a:p>
            <a:pPr marL="268200" indent="-26820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80000"/>
                </a:solidFill>
                <a:latin typeface="Times New Roman"/>
              </a:rPr>
              <a:t>Iscritti albo consulenti del lavoro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marL="268200" indent="-268200">
              <a:lnSpc>
                <a:spcPct val="80000"/>
              </a:lnSpc>
              <a:spcBef>
                <a:spcPts val="2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99"/>
              </a:solidFill>
              <a:latin typeface="Times New Roman"/>
            </a:endParaRPr>
          </a:p>
          <a:p>
            <a:pPr marL="268200" indent="-268200" algn="just">
              <a:lnSpc>
                <a:spcPct val="80000"/>
              </a:lnSpc>
              <a:spcBef>
                <a:spcPts val="34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10000"/>
                </a:solidFill>
                <a:latin typeface="Times New Roman"/>
                <a:ea typeface="ＭＳ Ｐゴシック"/>
              </a:rPr>
              <a:t>Soggetti che rendono servizi forniti da periti e consulenti e altri che svolgono in maniera professionale attività in materia di contabilità e tributi (comprese associazioni di categoria di imprenditori e commercianti, CAF e patronati,</a:t>
            </a:r>
            <a:r>
              <a:rPr b="0" lang="it-IT" sz="1600" spc="-1" strike="noStrike">
                <a:solidFill>
                  <a:srgbClr val="010000"/>
                </a:solidFill>
                <a:latin typeface="Times New Roman"/>
                <a:ea typeface="ＭＳ Ｐゴシック"/>
              </a:rPr>
              <a:t> </a:t>
            </a:r>
            <a:r>
              <a:rPr b="0" lang="it-IT" sz="1400" spc="-1" strike="noStrike">
                <a:solidFill>
                  <a:srgbClr val="010000"/>
                </a:solidFill>
                <a:latin typeface="Times New Roman"/>
                <a:ea typeface="ＭＳ Ｐゴシック"/>
              </a:rPr>
              <a:t>dal 2007</a:t>
            </a:r>
            <a:r>
              <a:rPr b="1" lang="it-IT" sz="1600" spc="-1" strike="noStrike">
                <a:solidFill>
                  <a:srgbClr val="010000"/>
                </a:solidFill>
                <a:latin typeface="Times New Roman"/>
                <a:ea typeface="ＭＳ Ｐゴシック"/>
              </a:rPr>
              <a:t>)</a:t>
            </a:r>
            <a:r>
              <a:rPr b="1" lang="it-IT" sz="14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marL="268200" indent="-268200">
              <a:lnSpc>
                <a:spcPct val="80000"/>
              </a:lnSpc>
              <a:spcBef>
                <a:spcPts val="349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marL="268200" indent="-26820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10000"/>
                </a:solidFill>
                <a:latin typeface="Times New Roman"/>
                <a:ea typeface="ＭＳ Ｐゴシック"/>
              </a:rPr>
              <a:t>Notai e avvocati in relazione ad attività determinate: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lvl="1" marL="1085760" indent="-27756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10000"/>
                </a:solidFill>
                <a:latin typeface="Times New Roman"/>
                <a:ea typeface="ＭＳ Ｐゴシック"/>
              </a:rPr>
              <a:t>immobiliari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lvl="1" marL="1085760" indent="-27756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10000"/>
                </a:solidFill>
                <a:latin typeface="Times New Roman"/>
                <a:ea typeface="ＭＳ Ｐゴシック"/>
              </a:rPr>
              <a:t>finanziari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lvl="1" marL="1085760" indent="-27756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10000"/>
                </a:solidFill>
                <a:latin typeface="Times New Roman"/>
                <a:ea typeface="ＭＳ Ｐゴシック"/>
              </a:rPr>
              <a:t>societari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marL="268200" indent="-268200">
              <a:lnSpc>
                <a:spcPct val="80000"/>
              </a:lnSpc>
              <a:spcBef>
                <a:spcPts val="2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99"/>
              </a:solidFill>
              <a:latin typeface="Times New Roman"/>
            </a:endParaRPr>
          </a:p>
          <a:p>
            <a:pPr marL="268200" indent="-26820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10000"/>
                </a:solidFill>
                <a:latin typeface="Times New Roman"/>
                <a:ea typeface="ＭＳ Ｐゴシック"/>
              </a:rPr>
              <a:t>Prestatori di servizi relativi a società e tru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marL="268200" indent="-268200">
              <a:lnSpc>
                <a:spcPct val="80000"/>
              </a:lnSpc>
              <a:spcBef>
                <a:spcPts val="2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99"/>
              </a:solidFill>
              <a:latin typeface="Times New Roman"/>
            </a:endParaRPr>
          </a:p>
          <a:p>
            <a:pPr marL="268200" indent="-26820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10000"/>
                </a:solidFill>
                <a:latin typeface="Times New Roman"/>
                <a:ea typeface="ＭＳ Ｐゴシック"/>
              </a:rPr>
              <a:t>Revisori contabili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marL="268200" indent="-268200">
              <a:lnSpc>
                <a:spcPct val="80000"/>
              </a:lnSpc>
              <a:spcBef>
                <a:spcPts val="2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99"/>
              </a:solidFill>
              <a:latin typeface="Times New Roman"/>
            </a:endParaRPr>
          </a:p>
          <a:p>
            <a:pPr marL="268200" indent="-26820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10000"/>
                </a:solidFill>
                <a:latin typeface="Times New Roman"/>
                <a:ea typeface="ＭＳ Ｐゴシック"/>
              </a:rPr>
              <a:t>Società di revision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0" y="5373720"/>
            <a:ext cx="525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10000"/>
                </a:solidFill>
                <a:latin typeface="Arial"/>
              </a:rPr>
              <a:t>(Artt. 12 e 13 d.lgs. n. 231/2007)</a:t>
            </a:r>
            <a:br>
              <a:rPr sz="1400"/>
            </a:b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3"/>
          <p:cNvSpPr/>
          <p:nvPr/>
        </p:nvSpPr>
        <p:spPr>
          <a:xfrm>
            <a:off x="515880" y="333360"/>
            <a:ext cx="82296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16000" y="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33"/>
                </a:solidFill>
                <a:latin typeface="Arial"/>
              </a:rPr>
              <a:t>I soggetti obbligati (3)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755640" y="620640"/>
            <a:ext cx="8209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80000"/>
                </a:solidFill>
                <a:latin typeface="Times New Roman"/>
              </a:rPr>
              <a:t>Una comparazione con altri ordinamenti europei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1187280" y="1700280"/>
            <a:ext cx="7488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8200" indent="-268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d0d"/>
                </a:solidFill>
                <a:latin typeface="Times New Roman"/>
                <a:ea typeface="ＭＳ Ｐゴシック"/>
              </a:rPr>
              <a:t>	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lvl="1" marL="1085760" indent="-277560">
              <a:lnSpc>
                <a:spcPct val="80000"/>
              </a:lnSpc>
              <a:spcBef>
                <a:spcPts val="45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10000"/>
                </a:solidFill>
                <a:latin typeface="Times New Roman"/>
                <a:ea typeface="ＭＳ Ｐゴシック"/>
              </a:rPr>
              <a:t>Omogeneità delle categorie professionali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1085760" indent="-277560">
              <a:lnSpc>
                <a:spcPct val="80000"/>
              </a:lnSpc>
              <a:spcBef>
                <a:spcPts val="45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10000"/>
                </a:solidFill>
                <a:latin typeface="Times New Roman"/>
                <a:ea typeface="ＭＳ Ｐゴシック"/>
              </a:rPr>
              <a:t>In molti Paesi, ruolo di filtro degli ordini professionali con partecipazione a indicatori e controlli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1085760" indent="-277560">
              <a:lnSpc>
                <a:spcPct val="80000"/>
              </a:lnSpc>
              <a:spcBef>
                <a:spcPts val="45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10000"/>
                </a:solidFill>
                <a:latin typeface="Times New Roman"/>
                <a:ea typeface="ＭＳ Ｐゴシック"/>
              </a:rPr>
              <a:t>Attribuzione di valutazione soggettiva per la rilevazione di SO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1085760" indent="-277560">
              <a:lnSpc>
                <a:spcPct val="80000"/>
              </a:lnSpc>
              <a:spcBef>
                <a:spcPts val="45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10000"/>
                </a:solidFill>
                <a:latin typeface="Times New Roman"/>
                <a:ea typeface="ＭＳ Ｐゴシック"/>
              </a:rPr>
              <a:t>Scarsa quantità delle segnalazioni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1085760" indent="-277560">
              <a:lnSpc>
                <a:spcPct val="80000"/>
              </a:lnSpc>
              <a:spcBef>
                <a:spcPts val="45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10000"/>
                </a:solidFill>
                <a:latin typeface="Times New Roman"/>
                <a:ea typeface="ＭＳ Ｐゴシック"/>
              </a:rPr>
              <a:t>In generale, tendenza a ricopiare più che a recepire la Terza Direttiv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1085760" indent="-277560">
              <a:lnSpc>
                <a:spcPct val="80000"/>
              </a:lnSpc>
              <a:spcBef>
                <a:spcPts val="45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marL="268200" indent="-268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10000"/>
                </a:solidFill>
                <a:latin typeface="Times New Roman"/>
              </a:rPr>
              <a:t>	</a:t>
            </a:r>
            <a:r>
              <a:rPr b="1" i="1" lang="it-IT" sz="1800" spc="-1" strike="noStrike">
                <a:solidFill>
                  <a:srgbClr val="010000"/>
                </a:solidFill>
                <a:latin typeface="Times New Roman"/>
              </a:rPr>
              <a:t>Contenzioso sulla compatibilità tra applicazione della normativa antiriciclaggio e diritto alla difesa; ricorsi nazionali ed europei (Corte di Giustizia CE, 26 giugno 2007; Consiglio di Stato francese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marL="268200" indent="-268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10000"/>
                </a:solidFill>
                <a:latin typeface="Times New Roman"/>
              </a:rPr>
              <a:t>	</a:t>
            </a:r>
            <a:r>
              <a:rPr b="1" i="1" lang="it-IT" sz="1800" spc="-1" strike="noStrike">
                <a:solidFill>
                  <a:srgbClr val="c80000"/>
                </a:solidFill>
                <a:latin typeface="Times New Roman"/>
              </a:rPr>
              <a:t>In generale, compatibilità tra obbligo di segnalazione e diritto di difesa per esclusione di attività giudiziari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1085760" indent="-277560">
              <a:lnSpc>
                <a:spcPct val="80000"/>
              </a:lnSpc>
              <a:spcBef>
                <a:spcPts val="45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1085760" indent="-2775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1085760" indent="-277560">
              <a:lnSpc>
                <a:spcPct val="80000"/>
              </a:lnSpc>
              <a:spcBef>
                <a:spcPts val="45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6926400" cy="6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0033"/>
                </a:solidFill>
                <a:latin typeface="Arial"/>
              </a:rPr>
              <a:t>Segnalazione di operazioni sospette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71640" y="981000"/>
            <a:ext cx="7704000" cy="7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3000"/>
          </a:bodyPr>
          <a:p>
            <a:pPr marL="397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c80000"/>
                </a:solidFill>
                <a:latin typeface="Arial"/>
              </a:rPr>
              <a:t>La segnalazione è il risultato di un processo valutativo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397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c8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397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it-IT" sz="1800" spc="-1" strike="noStrike">
                <a:solidFill>
                  <a:srgbClr val="010000"/>
                </a:solidFill>
                <a:latin typeface="Arial"/>
              </a:rPr>
              <a:t>obbligo di segnalazione quando l’intermediario / il professionista sa, sospetta o ha motivi ragionevoli per sospettare che operazioni di riciclaggio siano in corso, siano state compiute o siano state tentate…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397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71640" y="2276640"/>
            <a:ext cx="7704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30360" indent="-45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80000" y="2781360"/>
            <a:ext cx="142560" cy="792000"/>
          </a:xfrm>
          <a:custGeom>
            <a:avLst/>
            <a:gdLst>
              <a:gd name="textAreaLeft" fmla="*/ 91080 w 142560"/>
              <a:gd name="textAreaRight" fmla="*/ 142920 w 14256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67280" y="2781360"/>
            <a:ext cx="136836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990000"/>
                </a:solidFill>
                <a:latin typeface="Times New Roman"/>
              </a:rPr>
              <a:t>caratteristich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990000"/>
                </a:solidFill>
                <a:latin typeface="Times New Roman"/>
              </a:rPr>
              <a:t>entità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990000"/>
                </a:solidFill>
                <a:latin typeface="Times New Roman"/>
              </a:rPr>
              <a:t>natura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51280" y="3860640"/>
            <a:ext cx="144360" cy="414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0800 h 414360"/>
              <a:gd name="textAreaBottom" fmla="*/ 403560 h 41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67280" y="3716280"/>
            <a:ext cx="42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990000"/>
                </a:solidFill>
                <a:latin typeface="Times New Roman"/>
              </a:rPr>
              <a:t>coerenza tra caratteri personali/capacità reddituale e operazione/operatività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19280" y="292428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it-IT" sz="1600" spc="-1" strike="noStrike">
                <a:solidFill>
                  <a:srgbClr val="010000"/>
                </a:solidFill>
                <a:latin typeface="Times New Roman"/>
              </a:rPr>
              <a:t>elementi oggettivi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92360" y="4581360"/>
            <a:ext cx="70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it-IT" sz="1600" spc="-1" strike="noStrike">
                <a:solidFill>
                  <a:srgbClr val="010000"/>
                </a:solidFill>
                <a:latin typeface="Times New Roman"/>
              </a:rPr>
              <a:t>altre circostanze conosciute dal soggetto obbligato per le funzioni esercitat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92360" y="371628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it-IT" sz="1600" spc="-1" strike="noStrike">
                <a:solidFill>
                  <a:srgbClr val="010000"/>
                </a:solidFill>
                <a:latin typeface="Times New Roman"/>
              </a:rPr>
              <a:t>elementi soggettivi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24360" y="2781360"/>
            <a:ext cx="2448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0000"/>
                </a:solidFill>
                <a:latin typeface="Times New Roman"/>
              </a:rPr>
              <a:t>operazione/prestazion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0000"/>
                </a:solidFill>
                <a:latin typeface="Times New Roman"/>
              </a:rPr>
              <a:t>specie per clienti occasionali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35640" y="2781360"/>
            <a:ext cx="73080" cy="647640"/>
          </a:xfrm>
          <a:custGeom>
            <a:avLst/>
            <a:gdLst>
              <a:gd name="textAreaLeft" fmla="*/ 46800 w 73080"/>
              <a:gd name="textAreaRight" fmla="*/ 73440 w 730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08360" y="5229360"/>
            <a:ext cx="525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10000"/>
                </a:solidFill>
                <a:latin typeface="Arial"/>
              </a:rPr>
              <a:t>(Art. 41, comma 1, d.lgs. n. 231/2007)</a:t>
            </a:r>
            <a:br>
              <a:rPr sz="1400"/>
            </a:b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16000" y="1125360"/>
            <a:ext cx="755964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1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Finalità della disciplina antiriciclaggio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1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1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Il quadro normativo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1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1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L’UIF: posizione istituzionale, organizzazione, funzioni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1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1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La segnalazione di operazioni sospette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720720" algn="just">
              <a:lnSpc>
                <a:spcPct val="100000"/>
              </a:lnSpc>
              <a:buClr>
                <a:srgbClr val="01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presupposti dell’obbligo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720720" algn="just">
              <a:lnSpc>
                <a:spcPct val="100000"/>
              </a:lnSpc>
              <a:buClr>
                <a:srgbClr val="01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indicatori e schemi di anomali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720720" algn="just">
              <a:lnSpc>
                <a:spcPct val="100000"/>
              </a:lnSpc>
              <a:buClr>
                <a:srgbClr val="01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iter segnaletico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720720" algn="just">
              <a:lnSpc>
                <a:spcPct val="100000"/>
              </a:lnSpc>
              <a:buClr>
                <a:srgbClr val="01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dati statistici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720720" algn="just">
              <a:lnSpc>
                <a:spcPct val="100000"/>
              </a:lnSpc>
              <a:buClr>
                <a:srgbClr val="01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1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Problemi e prospettive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1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720720" algn="just">
              <a:lnSpc>
                <a:spcPct val="100000"/>
              </a:lnSpc>
              <a:buClr>
                <a:srgbClr val="01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720720" algn="just">
              <a:lnSpc>
                <a:spcPct val="100000"/>
              </a:lnSpc>
              <a:buClr>
                <a:srgbClr val="01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1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00000" y="18900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33"/>
                </a:solidFill>
                <a:latin typeface="Arial"/>
              </a:rPr>
              <a:t>Indice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116000" y="0"/>
            <a:ext cx="74883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0033"/>
                </a:solidFill>
                <a:latin typeface="Arial"/>
              </a:rPr>
              <a:t>Segnalazione di operazioni sospette (2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42920" y="1557360"/>
            <a:ext cx="7632720" cy="39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Attività determinata o determinabile, finalizzata a un obiettivo di natura finanziaria o patrimoniale modificativo della situazione giuridica esistente, da realizzare tramite una prestazione professionale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80000"/>
                </a:solidFill>
                <a:latin typeface="Arial"/>
              </a:rPr>
              <a:t>Limite dell’obbligo per professionisti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L’obbligo non si applica per le informazioni ricevute da un cliente o ottenute nel corso dell’esame della posizione giuridica o </a:t>
            </a:r>
            <a:r>
              <a:rPr b="1" lang="it-IT" sz="2000" spc="-1" strike="noStrike">
                <a:solidFill>
                  <a:srgbClr val="c80000"/>
                </a:solidFill>
                <a:latin typeface="Arial"/>
              </a:rPr>
              <a:t>nell’esercizio dei compiti di difesa o di rappresentanza del medesimo in un procedimento giudiziario</a:t>
            </a: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 o in relazione a tale procedimento, compresa la consulenza sull’eventualità di intentare o evitare un procedimento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42920" y="1125360"/>
            <a:ext cx="76327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80000"/>
                </a:solidFill>
                <a:latin typeface="Arial"/>
              </a:rPr>
              <a:t>Nozione di operazione per professionisti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900000" y="0"/>
            <a:ext cx="79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0033"/>
                </a:solidFill>
                <a:latin typeface="Arial"/>
              </a:rPr>
              <a:t>Recenti modifiche all’art. 41 del d.lgs. 231/2007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16000" y="1976040"/>
            <a:ext cx="7561440" cy="393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Integrano elementi di sospetto “</a:t>
            </a:r>
            <a:r>
              <a:rPr b="1" i="1" lang="it-IT" sz="1800" spc="-1" strike="noStrike">
                <a:solidFill>
                  <a:srgbClr val="010000"/>
                </a:solidFill>
                <a:latin typeface="Arial"/>
              </a:rPr>
              <a:t>il ricorso frequente o ingiustificato a operazioni in contante, anche se non in violazione dei limiti di cui all’articolo 49, e, in particolare, il prelievo o il versamento in contante con intermediari finanziari di importo pari o superiore a 15.000 euro</a:t>
            </a: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80000"/>
                </a:solidFill>
                <a:latin typeface="Arial"/>
              </a:rPr>
              <a:t>Circolare MEF n. 297944 dell’11.10.2010: </a:t>
            </a:r>
            <a:r>
              <a:rPr b="1" i="1" lang="it-IT" sz="1800" spc="-1" strike="noStrike">
                <a:solidFill>
                  <a:srgbClr val="010000"/>
                </a:solidFill>
                <a:latin typeface="Arial"/>
              </a:rPr>
              <a:t>si tratta di un particolare indicatore di anomalia (operatività in contanti, frequente o ingiustificata) da considerare nella valutazione complessiva dell’operazione</a:t>
            </a: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80000"/>
                </a:solidFill>
                <a:latin typeface="Arial"/>
              </a:rPr>
              <a:t>No sos automatica!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42920" y="1020600"/>
            <a:ext cx="763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10000"/>
                </a:solidFill>
                <a:latin typeface="Arial"/>
              </a:rPr>
              <a:t>Ai sensi dell’ articolo 41, comma 1, ultimo periodo, del d.lgs. n. 231/07, emendato dall’art. 36, comma 1, lett. b) del d.l. 31 maggio 2010, n. 78:</a:t>
            </a:r>
            <a:r>
              <a:rPr b="0" lang="it-IT" sz="16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588000" y="2565360"/>
            <a:ext cx="1871640" cy="2016000"/>
          </a:xfrm>
          <a:prstGeom prst="ellipse">
            <a:avLst/>
          </a:prstGeom>
          <a:solidFill>
            <a:srgbClr val="ffe1ff"/>
          </a:solidFill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32000" y="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33"/>
                </a:solidFill>
                <a:latin typeface="Times New Roman"/>
              </a:rPr>
              <a:t>SOS: aspetti normativi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32000" y="3573360"/>
            <a:ext cx="1800000" cy="920160"/>
          </a:xfrm>
          <a:prstGeom prst="rect">
            <a:avLst/>
          </a:prstGeom>
          <a:solidFill>
            <a:srgbClr val="ffff00"/>
          </a:solidFill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9900ff"/>
                </a:solidFill>
                <a:latin typeface="Times New Roman"/>
              </a:rPr>
              <a:t>SOGGETTI OBBLIGATI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32720" y="3213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6699"/>
                </a:solidFill>
                <a:latin typeface="Times New Roman"/>
              </a:rPr>
              <a:t>UIF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32720" y="836640"/>
            <a:ext cx="1511280" cy="1117080"/>
          </a:xfrm>
          <a:prstGeom prst="rect">
            <a:avLst/>
          </a:prstGeom>
          <a:solidFill>
            <a:srgbClr val="ffebff"/>
          </a:solidFill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10000"/>
                </a:solidFill>
                <a:latin typeface="Times New Roman"/>
              </a:rPr>
              <a:t>Proposta di indicatori di anomalia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08360" y="5516640"/>
            <a:ext cx="1800360" cy="641520"/>
          </a:xfrm>
          <a:prstGeom prst="rect">
            <a:avLst/>
          </a:prstGeom>
          <a:solidFill>
            <a:srgbClr val="ffebff"/>
          </a:solidFill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10000"/>
                </a:solidFill>
                <a:latin typeface="Times New Roman"/>
              </a:rPr>
              <a:t>Modelli e schemi di comportamento anomalo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484360" y="1125360"/>
            <a:ext cx="1368360" cy="916920"/>
          </a:xfrm>
          <a:prstGeom prst="rect">
            <a:avLst/>
          </a:prstGeom>
          <a:solidFill>
            <a:srgbClr val="fcf2d8"/>
          </a:solidFill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990000"/>
                </a:solidFill>
                <a:latin typeface="Times New Roman"/>
              </a:rPr>
              <a:t>Autorità di Vigilanza di settore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71640" y="1125360"/>
            <a:ext cx="1224000" cy="916920"/>
          </a:xfrm>
          <a:prstGeom prst="rect">
            <a:avLst/>
          </a:prstGeom>
          <a:solidFill>
            <a:srgbClr val="fcf2d8"/>
          </a:solidFill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990000"/>
                </a:solidFill>
                <a:latin typeface="Times New Roman"/>
              </a:rPr>
              <a:t>Min. Giustizia e Interni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2360" y="2781360"/>
            <a:ext cx="1081080" cy="459000"/>
          </a:xfrm>
          <a:prstGeom prst="rect">
            <a:avLst/>
          </a:prstGeom>
          <a:solidFill>
            <a:srgbClr val="fcf2d8"/>
          </a:solidFill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10000"/>
                </a:solidFill>
                <a:latin typeface="Times New Roman"/>
              </a:rPr>
              <a:t>Indicatori di anomalia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7524720" y="2133360"/>
            <a:ext cx="0" cy="43164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547280" y="692280"/>
            <a:ext cx="597708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47640" y="692280"/>
            <a:ext cx="0" cy="43308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4437000"/>
            <a:ext cx="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524720" y="4581360"/>
            <a:ext cx="0" cy="64800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5508720" y="5013360"/>
            <a:ext cx="2016000" cy="2160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195640" y="5013360"/>
            <a:ext cx="1512720" cy="43164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195640" y="4437000"/>
            <a:ext cx="0" cy="100656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76360" y="2060640"/>
            <a:ext cx="0" cy="36036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32000" y="2060640"/>
            <a:ext cx="0" cy="36036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476360" y="2421000"/>
            <a:ext cx="431640" cy="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627280" y="2421000"/>
            <a:ext cx="504720" cy="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68360" y="3284640"/>
            <a:ext cx="0" cy="28872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3132000" y="3645000"/>
            <a:ext cx="3456000" cy="288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635280" y="3573360"/>
            <a:ext cx="5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ff0d0d"/>
                </a:solidFill>
                <a:latin typeface="Times New Roman"/>
              </a:rPr>
              <a:t>SOS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7524720" y="691920"/>
            <a:ext cx="0" cy="14436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08360" y="4797360"/>
            <a:ext cx="1800360" cy="459000"/>
          </a:xfrm>
          <a:prstGeom prst="rect">
            <a:avLst/>
          </a:prstGeom>
          <a:solidFill>
            <a:srgbClr val="ffebff"/>
          </a:solidFill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10000"/>
                </a:solidFill>
                <a:latin typeface="Times New Roman"/>
              </a:rPr>
              <a:t>Istruzioni sul contenuto delle SOS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95640" y="5445000"/>
            <a:ext cx="1512720" cy="43200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5508720" y="5229360"/>
            <a:ext cx="2016000" cy="64764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08000" y="2276640"/>
            <a:ext cx="721080" cy="2887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10000"/>
                </a:solidFill>
                <a:latin typeface="Times New Roman"/>
              </a:rPr>
              <a:t>CSF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03640" y="692280"/>
            <a:ext cx="0" cy="43308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68360" y="2565360"/>
            <a:ext cx="0" cy="216000"/>
          </a:xfrm>
          <a:prstGeom prst="line">
            <a:avLst/>
          </a:prstGeom>
          <a:ln w="19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6448320"/>
            <a:ext cx="568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10000"/>
                </a:solidFill>
                <a:latin typeface="Times New Roman"/>
              </a:rPr>
              <a:t>(Art. 6, co. 7, lett. b) e art. </a:t>
            </a:r>
            <a:r>
              <a:rPr b="1" i="1" lang="it-IT" sz="1400" spc="-1" strike="noStrike">
                <a:solidFill>
                  <a:srgbClr val="010000"/>
                </a:solidFill>
                <a:latin typeface="Times New Roman"/>
              </a:rPr>
              <a:t>41</a:t>
            </a:r>
            <a:r>
              <a:rPr b="1" i="1" lang="it-IT" sz="1600" spc="-1" strike="noStrike">
                <a:solidFill>
                  <a:srgbClr val="010000"/>
                </a:solidFill>
                <a:latin typeface="Times New Roman"/>
              </a:rPr>
              <a:t>, co. 2 e 3, d.lgs. 231/2007)</a:t>
            </a:r>
            <a:br>
              <a:rPr sz="1600"/>
            </a:b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115640" y="1268280"/>
            <a:ext cx="7488360" cy="406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5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10000"/>
                </a:solidFill>
                <a:latin typeface="Arial"/>
              </a:rPr>
              <a:t>Art. 41, comma 2, lett. a) d.lgs. 231/07: iter di emanazione delle proposte UIF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55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55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909"/>
                </a:solidFill>
                <a:latin typeface="Arial"/>
              </a:rPr>
              <a:t>Per i professionisti: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55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55680" indent="-355680" algn="just">
              <a:lnSpc>
                <a:spcPct val="80000"/>
              </a:lnSpc>
              <a:spcBef>
                <a:spcPts val="400"/>
              </a:spcBef>
              <a:buClr>
                <a:srgbClr val="ff9966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10000"/>
                </a:solidFill>
                <a:latin typeface="Arial"/>
              </a:rPr>
              <a:t>Audizione “informale” degli Ordini professionali da parte della UIF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55680" indent="-355680" algn="just">
              <a:lnSpc>
                <a:spcPct val="80000"/>
              </a:lnSpc>
              <a:spcBef>
                <a:spcPts val="400"/>
              </a:spcBef>
              <a:buClr>
                <a:srgbClr val="ff9966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10000"/>
                </a:solidFill>
                <a:latin typeface="Arial"/>
              </a:rPr>
              <a:t>Audizione “formale” degli Ordini da parte del Ministero di Giustizia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55680" indent="-355680" algn="just">
              <a:lnSpc>
                <a:spcPct val="80000"/>
              </a:lnSpc>
              <a:spcBef>
                <a:spcPts val="400"/>
              </a:spcBef>
              <a:buClr>
                <a:srgbClr val="ff9966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10000"/>
                </a:solidFill>
                <a:latin typeface="Arial"/>
              </a:rPr>
              <a:t>Esame del Comitato di Sicurezza Finanziaria presso il MEF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55680" indent="-355680" algn="just">
              <a:lnSpc>
                <a:spcPct val="80000"/>
              </a:lnSpc>
              <a:spcBef>
                <a:spcPts val="400"/>
              </a:spcBef>
              <a:buClr>
                <a:srgbClr val="ff9966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10000"/>
                </a:solidFill>
                <a:latin typeface="Arial"/>
              </a:rPr>
              <a:t>D.M. Ministero di Giustizia 16 aprile 2010 (G.U. 3 maggio 2010, n. 101)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55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lvl="1" marL="9097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10000"/>
                </a:solidFill>
                <a:latin typeface="Arial"/>
              </a:rPr>
              <a:t>Struttura: 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lvl="1" marL="909720" indent="-285840" algn="just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1" i="1" lang="it-IT" sz="1600" spc="-1" strike="noStrike">
                <a:solidFill>
                  <a:srgbClr val="010000"/>
                </a:solidFill>
                <a:latin typeface="Arial"/>
              </a:rPr>
              <a:t>parte generale” con definizioni e principi 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lvl="1" marL="909720" indent="-285840" algn="just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1" i="1" lang="it-IT" sz="1600" spc="-1" strike="noStrike">
                <a:solidFill>
                  <a:srgbClr val="010000"/>
                </a:solidFill>
                <a:latin typeface="Arial"/>
              </a:rPr>
              <a:t>allegato 1” con indicatori e sub-indici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lvl="1" marL="909720" indent="-285840" algn="just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1" i="1" lang="it-IT" sz="1600" spc="-1" strike="noStrike">
                <a:solidFill>
                  <a:srgbClr val="010000"/>
                </a:solidFill>
                <a:latin typeface="Arial"/>
              </a:rPr>
              <a:t>allegato 2” con regole sugli obblighi di segnalazione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703600" y="-1440"/>
            <a:ext cx="43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33"/>
                </a:solidFill>
                <a:latin typeface="Arial"/>
              </a:rPr>
              <a:t>Indicatori di anomalia (1)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1116000" y="1052280"/>
            <a:ext cx="669600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77760" indent="0" algn="ctr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c80000"/>
                </a:solidFill>
                <a:uFillTx/>
                <a:latin typeface="Arial"/>
              </a:rPr>
              <a:t>D.M. 16 aprile 2010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977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977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c80000"/>
                </a:solidFill>
                <a:latin typeface="Arial"/>
              </a:rPr>
              <a:t>Definizioni e destinatari 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977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c80000"/>
                </a:solidFill>
                <a:latin typeface="Arial"/>
              </a:rPr>
              <a:t>Finalità e principi</a:t>
            </a: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977760" indent="-533160" algn="just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10000"/>
                </a:solidFill>
                <a:latin typeface="Arial"/>
              </a:rPr>
              <a:t>Agevolare valutazione e ridurre incertezze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977760" indent="-533160" algn="just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10000"/>
                </a:solidFill>
                <a:latin typeface="Arial"/>
              </a:rPr>
              <a:t>Non esaustività (occorre valutare ulteriori comportamenti)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977760" indent="-533160" algn="just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10000"/>
                </a:solidFill>
                <a:latin typeface="Arial"/>
              </a:rPr>
              <a:t>Mera ricorrenza non è motivo sufficiente per segnalazione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977760" indent="-533160" algn="just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10000"/>
                </a:solidFill>
                <a:latin typeface="Arial"/>
              </a:rPr>
              <a:t>Selezione di indicatori sulla base della concreta attività svolta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977760" indent="-533160" algn="just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10000"/>
                </a:solidFill>
                <a:latin typeface="Arial"/>
              </a:rPr>
              <a:t>Applicazione di quelli “generali” e di quelli “specifici</a:t>
            </a:r>
            <a:r>
              <a:rPr b="0" lang="it-IT" sz="1600" spc="-1" strike="noStrike">
                <a:solidFill>
                  <a:srgbClr val="01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977760" indent="-533160" algn="just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10000"/>
                </a:solidFill>
                <a:latin typeface="Arial"/>
              </a:rPr>
              <a:t>Rinvio agli schemi di anomalia diffusi dalla UIF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977760" indent="-533160" algn="just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10000"/>
                </a:solidFill>
                <a:latin typeface="Arial"/>
              </a:rPr>
              <a:t>Rinvio al provvedimento sul contenuto della SOS emanato dalla UIF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703600" y="-1440"/>
            <a:ext cx="43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33"/>
                </a:solidFill>
                <a:latin typeface="Arial"/>
              </a:rPr>
              <a:t>Indicatori di anomalia (2)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186920" y="1125000"/>
            <a:ext cx="7272360" cy="39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c80000"/>
                </a:solidFill>
                <a:uFillTx/>
                <a:latin typeface="Arial"/>
              </a:rPr>
              <a:t>Allegato 1: gli indicatori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288000" indent="-288000" algn="just">
              <a:lnSpc>
                <a:spcPct val="90000"/>
              </a:lnSpc>
              <a:spcBef>
                <a:spcPts val="4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A) Cliente (da 1 a 7): informazioni false o contraffatte,  comportamento inusuale, soggetti con precedenti negativi, operatività in </a:t>
            </a:r>
            <a:r>
              <a:rPr b="1" lang="it-IT" sz="1800" spc="-1" strike="noStrike" u="sng">
                <a:solidFill>
                  <a:srgbClr val="010000"/>
                </a:solidFill>
                <a:uFillTx/>
                <a:latin typeface="Arial"/>
              </a:rPr>
              <a:t>Paesi con regime antiriciclaggio non equivalente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288000" indent="-288000" algn="just">
              <a:lnSpc>
                <a:spcPct val="90000"/>
              </a:lnSpc>
              <a:spcBef>
                <a:spcPts val="4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B) Modalità di esecuzione delle prestazioni (da 8 a 10):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lvl="1" marL="664560" indent="-231480" algn="just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it-IT" sz="1800" spc="-1" strike="noStrike" u="sng">
                <a:solidFill>
                  <a:srgbClr val="010000"/>
                </a:solidFill>
                <a:uFillTx/>
                <a:latin typeface="Arial"/>
              </a:rPr>
              <a:t>incompatibilità</a:t>
            </a: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 con l’attività del cliente o del relativo gruppo (es. consulenza per l’organizzazione di operazioni finanziarie non coerenti con l’attività svolta)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lvl="1" marL="664560" indent="-231480" algn="just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it-IT" sz="1800" spc="-1" strike="noStrike" u="sng">
                <a:solidFill>
                  <a:srgbClr val="010000"/>
                </a:solidFill>
                <a:uFillTx/>
                <a:latin typeface="Arial"/>
              </a:rPr>
              <a:t>inusualità</a:t>
            </a: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 rispetto alle ordinarie modalità di svolgimento della prestazione (es. richiesta di prestazione a un professionista dislocato in località distante dalla residenza del cliente, in assenza di plausibili ragioni)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lvl="1" marL="664560" indent="-231480" algn="just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it-IT" sz="1800" spc="-1" strike="noStrike" u="sng">
                <a:solidFill>
                  <a:srgbClr val="010000"/>
                </a:solidFill>
                <a:uFillTx/>
                <a:latin typeface="Arial"/>
              </a:rPr>
              <a:t>illogicità</a:t>
            </a: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 rispetto a principi di razionalità economica (es. richiesta di modificare la prestazione in modo eccessivamente oneroso per il cliente)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703600" y="-1440"/>
            <a:ext cx="43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33"/>
                </a:solidFill>
                <a:latin typeface="Arial"/>
              </a:rPr>
              <a:t>Indicatori di anomalia (3)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1187280" y="1341360"/>
            <a:ext cx="7056720" cy="44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c80000"/>
                </a:solidFill>
                <a:uFillTx/>
                <a:latin typeface="Arial"/>
              </a:rPr>
              <a:t>Allegato 1: gli indicatori (segue)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55680" indent="-355680" algn="just">
              <a:lnSpc>
                <a:spcPct val="80000"/>
              </a:lnSpc>
              <a:spcBef>
                <a:spcPts val="34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10000"/>
                </a:solidFill>
                <a:latin typeface="Arial"/>
              </a:rPr>
              <a:t>C) Modalità di pagamento: contante, frazionamento, mezzi di pagamento di terzi </a:t>
            </a:r>
            <a:endParaRPr b="0" lang="en-US" sz="1400" spc="-1" strike="noStrike">
              <a:solidFill>
                <a:srgbClr val="009999"/>
              </a:solidFill>
              <a:latin typeface="Arial"/>
            </a:endParaRPr>
          </a:p>
          <a:p>
            <a:pPr marL="3556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9999"/>
              </a:solidFill>
              <a:latin typeface="Arial"/>
            </a:endParaRPr>
          </a:p>
          <a:p>
            <a:pPr marL="355680" indent="-355680" algn="just">
              <a:lnSpc>
                <a:spcPct val="80000"/>
              </a:lnSpc>
              <a:spcBef>
                <a:spcPts val="34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10000"/>
                </a:solidFill>
                <a:latin typeface="Arial"/>
              </a:rPr>
              <a:t>D) Costituzione e amministrazione di imprese: scopo o effetto di dissimulare o ostacolare l’identificazione del titolare effettivo o l’origine delle risorse finanziarie; conferimenti di beni a prezzi sproporzionati rispetto a quelli di mercato</a:t>
            </a:r>
            <a:endParaRPr b="0" lang="en-US" sz="1400" spc="-1" strike="noStrike">
              <a:solidFill>
                <a:srgbClr val="009999"/>
              </a:solidFill>
              <a:latin typeface="Arial"/>
            </a:endParaRPr>
          </a:p>
          <a:p>
            <a:pPr marL="3556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9999"/>
              </a:solidFill>
              <a:latin typeface="Arial"/>
            </a:endParaRPr>
          </a:p>
          <a:p>
            <a:pPr marL="355680" indent="-355680" algn="just">
              <a:lnSpc>
                <a:spcPct val="80000"/>
              </a:lnSpc>
              <a:spcBef>
                <a:spcPts val="34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10000"/>
                </a:solidFill>
                <a:latin typeface="Arial"/>
              </a:rPr>
              <a:t>E) Operazioni aventi a oggetto beni immobili o mobili registrati: acquisto di beni con prezzo sproporzionato; con rilevamento di azioni di società in Paesi non equivalenti; senza informazioni su luogo e condizioni contrattuali</a:t>
            </a:r>
            <a:endParaRPr b="0" lang="en-US" sz="1400" spc="-1" strike="noStrike">
              <a:solidFill>
                <a:srgbClr val="009999"/>
              </a:solidFill>
              <a:latin typeface="Arial"/>
            </a:endParaRPr>
          </a:p>
          <a:p>
            <a:pPr marL="3556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9999"/>
              </a:solidFill>
              <a:latin typeface="Arial"/>
            </a:endParaRPr>
          </a:p>
          <a:p>
            <a:pPr marL="355680" indent="-355680" algn="just">
              <a:lnSpc>
                <a:spcPct val="80000"/>
              </a:lnSpc>
              <a:spcBef>
                <a:spcPts val="34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10000"/>
                </a:solidFill>
                <a:latin typeface="Arial"/>
              </a:rPr>
              <a:t>F) Operazioni contabili e finanziarie: scopo o effetto di occultare disponibilità;  richiesta di finanziamenti effettuata sulla base di atti attestanti l’esistenza di cospicui depositi presso banche insediate in Paesi a regime non equivalente; successive operazioni di apertura e chiusura di conti; utilizzo di conti di terzi, specie di società, per l’impiego di disponibilità personali del cliente</a:t>
            </a:r>
            <a:endParaRPr b="0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703600" y="-1440"/>
            <a:ext cx="43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33"/>
                </a:solidFill>
                <a:latin typeface="Arial"/>
              </a:rPr>
              <a:t>Indicatori di anomalia (4)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116000" y="907920"/>
            <a:ext cx="7416720" cy="504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56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c80000"/>
                </a:solidFill>
                <a:uFillTx/>
                <a:latin typeface="Arial"/>
              </a:rPr>
              <a:t>ALLEGATO 2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c80000"/>
                </a:solidFill>
                <a:uFillTx/>
                <a:latin typeface="Arial"/>
              </a:rPr>
              <a:t>Ambito dell’obbligo di segnalazione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355680" indent="-177840" algn="just">
              <a:lnSpc>
                <a:spcPct val="80000"/>
              </a:lnSpc>
              <a:spcBef>
                <a:spcPts val="4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operazioni prive di importo, rifiutate, non concluse, tentate 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355680" indent="-177840" algn="just">
              <a:lnSpc>
                <a:spcPct val="80000"/>
              </a:lnSpc>
              <a:spcBef>
                <a:spcPts val="4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intera durata di relazione e non solo instaurazione e conclusione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355680" indent="-177840" algn="just">
              <a:lnSpc>
                <a:spcPct val="80000"/>
              </a:lnSpc>
              <a:spcBef>
                <a:spcPts val="4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astensione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355680" indent="-177840" algn="just">
              <a:lnSpc>
                <a:spcPct val="80000"/>
              </a:lnSpc>
              <a:spcBef>
                <a:spcPts val="4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esonero da responsabilità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355680" indent="-177840">
              <a:lnSpc>
                <a:spcPct val="80000"/>
              </a:lnSpc>
              <a:spcBef>
                <a:spcPts val="4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distinzione tra segnalazione e denuncia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3556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c80000"/>
                </a:solidFill>
                <a:uFillTx/>
                <a:latin typeface="Arial"/>
              </a:rPr>
              <a:t>Procedure interne per la rilevazione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355680" indent="-177840">
              <a:lnSpc>
                <a:spcPct val="80000"/>
              </a:lnSpc>
              <a:spcBef>
                <a:spcPts val="4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regolamentazione dell’iter valutativo seguito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355680" indent="-177840">
              <a:lnSpc>
                <a:spcPct val="80000"/>
              </a:lnSpc>
              <a:spcBef>
                <a:spcPts val="4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omogeneità di comportamenti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355680" indent="-177840">
              <a:lnSpc>
                <a:spcPct val="80000"/>
              </a:lnSpc>
              <a:spcBef>
                <a:spcPts val="4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specificità della professione svolta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c80000"/>
                </a:solidFill>
                <a:uFillTx/>
                <a:latin typeface="Arial"/>
              </a:rPr>
              <a:t>Riservatezza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355680" indent="-177840">
              <a:lnSpc>
                <a:spcPct val="80000"/>
              </a:lnSpc>
              <a:spcBef>
                <a:spcPts val="4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ruolo degli Ordini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355680" indent="-177840">
              <a:lnSpc>
                <a:spcPct val="80000"/>
              </a:lnSpc>
              <a:spcBef>
                <a:spcPts val="4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rapporti con la UIF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355680" indent="-177840">
              <a:lnSpc>
                <a:spcPct val="80000"/>
              </a:lnSpc>
              <a:spcBef>
                <a:spcPts val="4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divieto di comunicazione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703600" y="-1440"/>
            <a:ext cx="43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33"/>
                </a:solidFill>
                <a:latin typeface="Arial"/>
              </a:rPr>
              <a:t>Indicatori di anomalia (5)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1042560" y="1052280"/>
            <a:ext cx="7775640" cy="47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56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55680" indent="-355680" algn="just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Schemi di operatività caratterizzate da anomalie soggettive e oggettive; comportamenti specifici, ricorrenti nella prassi, caratterizzati da omogeneità e ripetitività, riconducibili a determinati fenomeni criminali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55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55680" indent="-355680" algn="just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contenuto più tecnico degli indicatori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55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55680" indent="-355680" algn="just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non tutti i comportamenti dello schema sono necessari per SOS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55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55680" indent="-355680" algn="just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no SOS (automatica) per singolo comportamento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87280" y="114480"/>
            <a:ext cx="735984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33"/>
                </a:solidFill>
                <a:latin typeface="Arial"/>
              </a:rPr>
              <a:t>Schemi o modelli di anomalia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660033"/>
                </a:solidFill>
                <a:latin typeface="Arial"/>
              </a:rPr>
              <a:t>(art. 6, comma 7, lett. b) d.lgs. n. 231/2007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1547640" y="2276280"/>
            <a:ext cx="6337440" cy="36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Profilo soggettivo del finanziato /finanziatore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Movimentazione vorticosa del rapporto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Anomalie nel versamento di assegni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Prelevamenti in contanti o assegni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Frequenti richiami o ritorni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987640" y="-1440"/>
            <a:ext cx="3097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33"/>
                </a:solidFill>
                <a:latin typeface="Arial"/>
              </a:rPr>
              <a:t>Schema usura </a:t>
            </a:r>
            <a:r>
              <a:rPr b="1" lang="it-IT" sz="1800" spc="-1" strike="noStrike">
                <a:solidFill>
                  <a:srgbClr val="660033"/>
                </a:solidFill>
                <a:latin typeface="Arial"/>
              </a:rPr>
              <a:t>(agosto 2011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042920" y="981000"/>
            <a:ext cx="756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Obiettivo: agevolare l’individuazione delle operazioni sospette nei rapporti intrattenuti con soggetti in difficoltà economica al fine di evitare il ricorso al prestito illegale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16000" y="1052640"/>
            <a:ext cx="7559640" cy="41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00000"/>
                </a:solidFill>
                <a:latin typeface="Arial"/>
              </a:rPr>
              <a:t>Prevenire</a:t>
            </a:r>
            <a:r>
              <a:rPr b="1" lang="it-IT" sz="1800" spc="-1" strike="noStrike">
                <a:solidFill>
                  <a:srgbClr val="ff0d0d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l'utilizzo del sistema finanziario e di quello economico a fini di riciclaggio o di finanziamento del terrorismo e, in generale, di reati finanziari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Tutelare l'</a:t>
            </a:r>
            <a:r>
              <a:rPr b="1" lang="it-IT" sz="1800" spc="-1" strike="noStrike">
                <a:solidFill>
                  <a:srgbClr val="c00000"/>
                </a:solidFill>
                <a:latin typeface="Arial"/>
              </a:rPr>
              <a:t>integrità</a:t>
            </a: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 di tali sistemi e la </a:t>
            </a:r>
            <a:r>
              <a:rPr b="1" lang="it-IT" sz="1800" spc="-1" strike="noStrike">
                <a:solidFill>
                  <a:srgbClr val="c00000"/>
                </a:solidFill>
                <a:latin typeface="Arial"/>
              </a:rPr>
              <a:t>correttezza dei comportamenti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L'azione di prevenzione è svolta in coordinamento con le attività di </a:t>
            </a:r>
            <a:r>
              <a:rPr b="1" lang="it-IT" sz="1800" spc="-1" strike="noStrike">
                <a:solidFill>
                  <a:srgbClr val="c00000"/>
                </a:solidFill>
                <a:latin typeface="Arial"/>
              </a:rPr>
              <a:t>repressione</a:t>
            </a:r>
            <a:r>
              <a:rPr b="1" lang="it-IT" sz="1800" spc="-1" strike="noStrike">
                <a:solidFill>
                  <a:srgbClr val="ff0d0d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dei reati e implica la </a:t>
            </a:r>
            <a:r>
              <a:rPr b="1" lang="it-IT" sz="1800" spc="-1" strike="noStrike">
                <a:solidFill>
                  <a:srgbClr val="c80000"/>
                </a:solidFill>
                <a:latin typeface="Arial"/>
              </a:rPr>
              <a:t>collaborazione</a:t>
            </a: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 dei soggetti obbligati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10000"/>
                </a:solidFill>
                <a:latin typeface="Arial"/>
              </a:rPr>
              <a:t>(Art. 2, commi 5 e 6, del d.lgs. 231/07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18900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33"/>
                </a:solidFill>
                <a:latin typeface="Arial"/>
              </a:rPr>
              <a:t>Finalità della disciplina antiriciclaggio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1042920" y="2276640"/>
            <a:ext cx="7416720" cy="36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56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ff0909"/>
                </a:solidFill>
                <a:uFillTx/>
                <a:latin typeface="Arial"/>
              </a:rPr>
              <a:t>Profilo soggettivo</a:t>
            </a: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556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99"/>
              </a:solidFill>
              <a:latin typeface="Arial"/>
            </a:endParaRPr>
          </a:p>
          <a:p>
            <a:pPr marL="355680" indent="-355680" algn="just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Variazioni nella proprietà o nell’amministrazione (improvvise o ripetute, soggetti non qualificati o lontani, in centri off-shore)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5568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99"/>
              </a:solidFill>
              <a:latin typeface="Arial"/>
            </a:endParaRPr>
          </a:p>
          <a:p>
            <a:pPr marL="3556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ff0909"/>
                </a:solidFill>
                <a:uFillTx/>
                <a:latin typeface="Arial"/>
              </a:rPr>
              <a:t>Profilo oggettivo</a:t>
            </a: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55680" indent="-355680" algn="just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Improvvisi afflussi di disponibilità (contributi, finanziamenti, flussi dall’estero)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556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99"/>
              </a:solidFill>
              <a:latin typeface="Arial"/>
            </a:endParaRPr>
          </a:p>
          <a:p>
            <a:pPr marL="355680" indent="-355680" algn="just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Cessioni di beni a prezzi non di mercato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702880" y="0"/>
            <a:ext cx="42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33"/>
                </a:solidFill>
                <a:latin typeface="Arial"/>
              </a:rPr>
              <a:t>Schema imprese in crisi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042920" y="836640"/>
            <a:ext cx="756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Obiettivo: agevolare l’individuazione delle operazioni sospette nei rapporti intrattenuti con soggetti in difficoltà economica o finanziaria (specie imprese) maggiormente esposti a infiltrazioni criminali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1116000" y="2781000"/>
            <a:ext cx="7709040" cy="28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6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ff0909"/>
                </a:solidFill>
                <a:uFillTx/>
                <a:latin typeface="Arial"/>
              </a:rPr>
              <a:t>Profilo soggettivo</a:t>
            </a: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: recente o breve operatività, settore economico, capitale minimo, assenza unità operative, soci non qualificati, documentazione contraffatta, assenza altri rapporti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266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266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ff0909"/>
                </a:solidFill>
                <a:uFillTx/>
                <a:latin typeface="Arial"/>
              </a:rPr>
              <a:t>Profilo oggettivo</a:t>
            </a: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: vorticosa movimentazione, operatività con l’estero, trasferimento fondi senza giustificazione commerciale, giri di fondi, cessione di beni a prezzi non di mercato, assenza di addebiti tipici di impresa    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415960" y="0"/>
            <a:ext cx="523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33"/>
                </a:solidFill>
                <a:latin typeface="Arial"/>
              </a:rPr>
              <a:t>Schema frodi IVA comunitaria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42920" y="765000"/>
            <a:ext cx="777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Obiettivo: prevenire condotte anche penalmente rilevanti (emissione di fatture per operazioni inesistenti o dichiarazioni fraudolente mediante utilizzo di fatture false) finalizzate a sottrarre risorse finanziarie all’erario e ad assicurare profitti alle organizzazioni criminali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554480" y="0"/>
            <a:ext cx="651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33"/>
                </a:solidFill>
                <a:latin typeface="Arial"/>
              </a:rPr>
              <a:t>Schema abuso finanziamenti pubblici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042920" y="907920"/>
            <a:ext cx="763272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Obiettivo: prevenire abusi nell’erogazione e nella gestione dei finanziamenti pubblici alle</a:t>
            </a:r>
            <a:r>
              <a:rPr b="0" lang="it-IT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imprese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042920" y="2133720"/>
            <a:ext cx="770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Attenzione sia alla fase </a:t>
            </a:r>
            <a:r>
              <a:rPr b="1" lang="it-IT" sz="2000" spc="-1" strike="noStrike" u="sng">
                <a:solidFill>
                  <a:srgbClr val="ff0909"/>
                </a:solidFill>
                <a:uFillTx/>
                <a:latin typeface="Arial"/>
              </a:rPr>
              <a:t>prodromica</a:t>
            </a: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 alla concessione dei fondi, inclusa l’istruttoria finalizzata alla erogazione, sia alla fase relativa all’</a:t>
            </a:r>
            <a:r>
              <a:rPr b="1" lang="it-IT" sz="2000" spc="-1" strike="noStrike" u="sng">
                <a:solidFill>
                  <a:srgbClr val="ff0909"/>
                </a:solidFill>
                <a:uFillTx/>
                <a:latin typeface="Arial"/>
              </a:rPr>
              <a:t>impiego </a:t>
            </a: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degli stessi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042920" y="3500280"/>
            <a:ext cx="7850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Informazioni riguardanti gli </a:t>
            </a:r>
            <a:r>
              <a:rPr b="1" lang="it-IT" sz="2000" spc="-1" strike="noStrike">
                <a:solidFill>
                  <a:srgbClr val="ff0909"/>
                </a:solidFill>
                <a:latin typeface="Arial"/>
              </a:rPr>
              <a:t>assetti proprietari</a:t>
            </a: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 delle imprese interessate all’ottenimento dei fondi e le </a:t>
            </a:r>
            <a:r>
              <a:rPr b="1" lang="it-IT" sz="2000" spc="-1" strike="noStrike">
                <a:solidFill>
                  <a:srgbClr val="ff0909"/>
                </a:solidFill>
                <a:latin typeface="Arial"/>
              </a:rPr>
              <a:t>effettive finalità economico-finanziarie</a:t>
            </a: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 sottostanti alle transazioni.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Particolare attenzione va prestata ai </a:t>
            </a:r>
            <a:r>
              <a:rPr b="1" lang="it-IT" sz="2000" spc="-1" strike="noStrike">
                <a:solidFill>
                  <a:srgbClr val="ff0909"/>
                </a:solidFill>
                <a:latin typeface="Arial"/>
              </a:rPr>
              <a:t>passaggi di quote societarie</a:t>
            </a: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 e all’ingresso di </a:t>
            </a:r>
            <a:r>
              <a:rPr b="1" lang="it-IT" sz="2000" spc="-1" strike="noStrike">
                <a:solidFill>
                  <a:srgbClr val="ff0909"/>
                </a:solidFill>
                <a:latin typeface="Arial"/>
              </a:rPr>
              <a:t>nuovi soci di maggioranza</a:t>
            </a: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, specie dopo l’assegnazione del contributo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547640" y="0"/>
            <a:ext cx="5832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33"/>
                </a:solidFill>
                <a:latin typeface="Arial"/>
              </a:rPr>
              <a:t>Schema evasione fiscale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0033"/>
                </a:solidFill>
                <a:latin typeface="Arial"/>
              </a:rPr>
              <a:t>(aprile 2012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26920" y="1628640"/>
            <a:ext cx="7850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10000"/>
                </a:solidFill>
                <a:latin typeface="Times New Roman"/>
              </a:rPr>
              <a:t>In Italia,  fenomeno con dimensioni molto più ampie di quelle di altri Paesi UE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10000"/>
                </a:solidFill>
                <a:latin typeface="Times New Roman"/>
              </a:rPr>
              <a:t>Evasione fiscale e riciclaggio sono fenomeni strettamente collegati e crescente è l’attenzione internazionale e nazionale a tale interconnessione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10000"/>
                </a:solidFill>
                <a:latin typeface="Times New Roman"/>
              </a:rPr>
              <a:t>Forme di evasione sofisticate nell’ambito delle quali, tramite complesse triangolazioni o un’artificiosa rappresentazione dei fatti gestionali, ingenti flussi finanziari sono sottratti al fisco, spesso veicolandoli verso Paesi a regime fiscale privilegiato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10000"/>
                </a:solidFill>
                <a:latin typeface="Times New Roman"/>
              </a:rPr>
              <a:t>Gli schemi diffusi dall’UIF in relazione all’operatività connessa con le frodi fiscali internazionali e con le frodi nelle fatturazioni, si applicano, in quanto compatibili, </a:t>
            </a:r>
            <a:r>
              <a:rPr b="1" lang="it-IT" sz="1800" spc="-1" strike="noStrike">
                <a:solidFill>
                  <a:srgbClr val="c80000"/>
                </a:solidFill>
                <a:latin typeface="Times New Roman"/>
              </a:rPr>
              <a:t>anche all’attività dei professionisti</a:t>
            </a:r>
            <a:r>
              <a:rPr b="1" lang="it-IT" sz="1800" spc="-1" strike="noStrike">
                <a:solidFill>
                  <a:srgbClr val="01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7380360" y="1125360"/>
            <a:ext cx="1368360" cy="1440000"/>
          </a:xfrm>
          <a:prstGeom prst="ellipse">
            <a:avLst/>
          </a:prstGeom>
          <a:solidFill>
            <a:srgbClr val="ffeb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826920" y="187200"/>
            <a:ext cx="8137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33"/>
                </a:solidFill>
                <a:latin typeface="Arial"/>
              </a:rPr>
              <a:t>SOS: iter segnaletico (professionisti)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55640" y="1413000"/>
            <a:ext cx="1368360" cy="631440"/>
          </a:xfrm>
          <a:prstGeom prst="rect">
            <a:avLst/>
          </a:prstGeom>
          <a:solidFill>
            <a:srgbClr val="ffffcc"/>
          </a:solidFill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99"/>
                </a:solidFill>
                <a:latin typeface="Times New Roman"/>
              </a:rPr>
              <a:t>Professionista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99"/>
                </a:solidFill>
                <a:latin typeface="Times New Roman"/>
              </a:rPr>
              <a:t>Canale PEC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340000" y="1773360"/>
            <a:ext cx="287280" cy="144360"/>
          </a:xfrm>
          <a:custGeom>
            <a:avLst/>
            <a:gdLst>
              <a:gd name="textAreaLeft" fmla="*/ 0 w 287280"/>
              <a:gd name="textAreaRight" fmla="*/ 287640 w 28728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>
              <a:alpha val="50000"/>
            </a:srgbClr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843280" y="1341360"/>
            <a:ext cx="2087640" cy="946440"/>
          </a:xfrm>
          <a:prstGeom prst="rect">
            <a:avLst/>
          </a:prstGeom>
          <a:solidFill>
            <a:srgbClr val="ffffcc"/>
          </a:solidFill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99"/>
                </a:solidFill>
                <a:latin typeface="Times New Roman"/>
              </a:rPr>
              <a:t>Eventuale Ordine (filtro su nominativo e non su contenuti), protocolli tra UIF e CNN e CNCL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24720" y="155736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Times New Roman"/>
              </a:rPr>
              <a:t>UIF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508720" y="1773360"/>
            <a:ext cx="287280" cy="144360"/>
          </a:xfrm>
          <a:custGeom>
            <a:avLst/>
            <a:gdLst>
              <a:gd name="textAreaLeft" fmla="*/ 0 w 287280"/>
              <a:gd name="textAreaRight" fmla="*/ 287640 w 28728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>
              <a:alpha val="50000"/>
            </a:srgbClr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84720" y="1844640"/>
            <a:ext cx="129564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156360" y="1557360"/>
            <a:ext cx="115092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990000"/>
                </a:solidFill>
                <a:latin typeface="Times New Roman"/>
              </a:rPr>
              <a:t>SOS senza nom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990000"/>
                </a:solidFill>
                <a:latin typeface="Times New Roman"/>
              </a:rPr>
              <a:t>Non c’è anonimato se manca il filtro dell’Ordin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51280" y="4005360"/>
            <a:ext cx="302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10000"/>
                </a:solidFill>
                <a:latin typeface="Times New Roman"/>
              </a:rPr>
              <a:t>Procedure di esame e valutazione (cfr. D.M. 16.4.2010, Allegato 2)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971640" y="3573360"/>
            <a:ext cx="6408720" cy="208764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87280" y="3933720"/>
            <a:ext cx="136872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10000"/>
                </a:solidFill>
                <a:latin typeface="Times New Roman"/>
              </a:rPr>
              <a:t>Indicatori di anomalia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10000"/>
                </a:solidFill>
                <a:latin typeface="Times New Roman"/>
              </a:rPr>
              <a:t>Modelli e schemi di comp. anomalo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187280" y="494172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1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971640" y="3213000"/>
            <a:ext cx="1944720" cy="360360"/>
          </a:xfrm>
          <a:prstGeom prst="rect">
            <a:avLst/>
          </a:prstGeom>
          <a:solidFill>
            <a:srgbClr val="ccff99"/>
          </a:solidFill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10000"/>
                </a:solidFill>
                <a:latin typeface="Times New Roman"/>
              </a:rPr>
              <a:t>Strumenti esterni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916360" y="3213000"/>
            <a:ext cx="4464000" cy="360360"/>
          </a:xfrm>
          <a:prstGeom prst="rect">
            <a:avLst/>
          </a:prstGeom>
          <a:solidFill>
            <a:srgbClr val="ccff99"/>
          </a:solidFill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10000"/>
                </a:solidFill>
                <a:latin typeface="Times New Roman"/>
              </a:rPr>
              <a:t>Strumenti interni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916360" y="3573360"/>
            <a:ext cx="0" cy="208764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1476360" y="2205000"/>
            <a:ext cx="1440000" cy="100800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2916360" y="2205000"/>
            <a:ext cx="287280" cy="100800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2916360" y="2349000"/>
            <a:ext cx="2303280" cy="86364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96000" y="6237360"/>
            <a:ext cx="287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10000"/>
                </a:solidFill>
                <a:latin typeface="Arial"/>
              </a:rPr>
              <a:t>(Art. 43 d.lgs. 231/2007)</a:t>
            </a:r>
            <a:br>
              <a:rPr sz="1400"/>
            </a:b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-1065240" y="47516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71640" y="0"/>
            <a:ext cx="784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60033"/>
                </a:solidFill>
                <a:latin typeface="Arial"/>
              </a:rPr>
              <a:t>SOS di riciclaggio e finanziamento del terrorismo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60033"/>
                </a:solidFill>
                <a:latin typeface="Arial"/>
              </a:rPr>
              <a:t>(anni 1997 – 2011)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971640" y="1700280"/>
          <a:ext cx="7921440" cy="478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700280"/>
                    <a:ext cx="792144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755640" y="907920"/>
          <a:ext cx="8137440" cy="649440"/>
        </p:xfrm>
        <a:graphic>
          <a:graphicData uri="http://schemas.openxmlformats.org/drawingml/2006/table">
            <a:tbl>
              <a:tblPr/>
              <a:tblGrid>
                <a:gridCol w="502920"/>
                <a:gridCol w="505080"/>
                <a:gridCol w="503280"/>
                <a:gridCol w="504720"/>
                <a:gridCol w="506520"/>
                <a:gridCol w="501480"/>
                <a:gridCol w="506520"/>
                <a:gridCol w="500040"/>
                <a:gridCol w="506160"/>
                <a:gridCol w="574920"/>
                <a:gridCol w="576360"/>
                <a:gridCol w="576000"/>
                <a:gridCol w="576360"/>
                <a:gridCol w="647640"/>
                <a:gridCol w="64944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7</a:t>
                      </a:r>
                      <a:endParaRPr b="0" lang="en-US" sz="11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8</a:t>
                      </a:r>
                      <a:endParaRPr b="0" lang="en-US" sz="11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9</a:t>
                      </a:r>
                      <a:endParaRPr b="0" lang="en-US" sz="11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1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11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11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1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1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1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1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1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</a:t>
                      </a:r>
                      <a:endParaRPr b="0" lang="en-US" sz="11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0</a:t>
                      </a:r>
                      <a:endParaRPr b="0" lang="en-US" sz="11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798</a:t>
                      </a:r>
                      <a:endParaRPr b="0" lang="en-US" sz="11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720</a:t>
                      </a:r>
                      <a:endParaRPr b="0" lang="en-US" sz="11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13</a:t>
                      </a:r>
                      <a:endParaRPr b="0" lang="en-US" sz="11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935</a:t>
                      </a:r>
                      <a:endParaRPr b="0" lang="en-US" sz="11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481</a:t>
                      </a:r>
                      <a:endParaRPr b="0" lang="en-US" sz="11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60</a:t>
                      </a:r>
                      <a:endParaRPr b="0" lang="en-US" sz="11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813</a:t>
                      </a:r>
                      <a:endParaRPr b="0" lang="en-US" sz="11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057</a:t>
                      </a:r>
                      <a:endParaRPr b="0" lang="en-US" sz="11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22</a:t>
                      </a:r>
                      <a:endParaRPr b="0" lang="en-US" sz="11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44</a:t>
                      </a:r>
                      <a:endParaRPr b="0" lang="en-US" sz="11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602</a:t>
                      </a:r>
                      <a:endParaRPr b="0" lang="en-US" sz="11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066</a:t>
                      </a:r>
                      <a:endParaRPr b="0" lang="en-US" sz="11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.321</a:t>
                      </a:r>
                      <a:endParaRPr b="0" lang="en-US" sz="11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.075</a:t>
                      </a:r>
                      <a:endParaRPr b="0" lang="en-US" sz="11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02920" y="-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SOS di riciclaggio da intermediari finanziari ripartite per tipologia di segnalante</a:t>
            </a:r>
            <a:br>
              <a:rPr sz="2000"/>
            </a:br>
            <a:r>
              <a:rPr b="1" i="1" lang="it-IT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(anno 2011)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7920000" cy="53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-1065240" y="47516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71640" y="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10000"/>
                </a:solidFill>
                <a:latin typeface="Times New Roman"/>
              </a:rPr>
              <a:t>Segnalazioni da imprese non finanziarie e da professionisti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547640" y="112536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10000"/>
                </a:solidFill>
                <a:latin typeface="Arial"/>
              </a:rPr>
              <a:t>Stralcio Relazione annuale: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10000"/>
                </a:solidFill>
                <a:latin typeface="Arial"/>
              </a:rPr>
              <a:t>Le sos passano da 223 nel 2010 a 492 nel 2011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10000"/>
                </a:solidFill>
                <a:latin typeface="Arial"/>
              </a:rPr>
              <a:t>La riluttanza a effettuare segnalazioni va presumibilmente ricondotta alla maggiore personalizzazione del rapporto e alla lunga tradizione di segreto professionale.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10000"/>
                </a:solidFill>
                <a:latin typeface="Arial"/>
              </a:rPr>
              <a:t>I notevoli benefici derivanti dall’inclusione dei professionisti tra i destinatari delle norme antiriciclaggio sono confermati dalla circostanza che in alcuni casi i soggetti da essi segnalati figurano anche in segnalazioni effettuate da intermediari finanziari. 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10000"/>
                </a:solidFill>
                <a:latin typeface="Arial"/>
              </a:rPr>
              <a:t>Emerge, quindi, un’evidente e proficua complementarità tra la componente finanziaria e quella più propriamente “reale”, che connota le segnalazioni provenienti dai professionisti.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2463840" y="5897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58920" y="189000"/>
            <a:ext cx="727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33"/>
                </a:solidFill>
                <a:latin typeface="Arial"/>
              </a:rPr>
              <a:t>Ricorrenti tipologie di operazioni segnalate…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971640" y="1557360"/>
            <a:ext cx="7777080" cy="47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cc3300"/>
                </a:solidFill>
                <a:latin typeface="Times New Roman"/>
              </a:rPr>
              <a:t>1. Operazioni immobiliari con profili irregolari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it-IT" sz="1400" spc="-1" strike="noStrike">
                <a:solidFill>
                  <a:srgbClr val="000066"/>
                </a:solidFill>
                <a:latin typeface="Times New Roman"/>
              </a:rPr>
              <a:t>evasione fiscale, coinvolgimento di società situate in paesi a fiscalità privilegiata, origine illecita dei fondi utilizzati, compravendita effettuata da parte di soggetti non residenti con disponibilità di cui non é nota l’origine, regolamento in contanti;</a:t>
            </a:r>
            <a:r>
              <a:rPr b="0" lang="it-IT" sz="1800" spc="-1" strike="noStrike">
                <a:solidFill>
                  <a:srgbClr val="00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cc3300"/>
                </a:solidFill>
                <a:latin typeface="Times New Roman"/>
              </a:rPr>
              <a:t>2. Irregolarità nei contratti societari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it-IT" sz="1400" spc="-1" strike="noStrike">
                <a:solidFill>
                  <a:srgbClr val="000066"/>
                </a:solidFill>
                <a:latin typeface="Times New Roman"/>
              </a:rPr>
              <a:t>costituzione di società o cessioni di partecipazioni a società situate in “paradisi fiscali”; modifica dell’assetto societario con interposizione di soggetti su cui emergono notizie non positive; costituzione e scioglimento di società in tempi ravvicinati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cc3300"/>
                </a:solidFill>
                <a:latin typeface="Times New Roman"/>
              </a:rPr>
              <a:t>3. Profili soggettivi della clientel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it-IT" sz="1400" spc="-1" strike="noStrike">
                <a:solidFill>
                  <a:srgbClr val="000066"/>
                </a:solidFill>
                <a:latin typeface="Times New Roman"/>
              </a:rPr>
              <a:t>prestazioni professionali richieste da clienti palesemente sprovvisti della normale competenza e conoscenza (prestanomi); 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cc3300"/>
                </a:solidFill>
                <a:latin typeface="Times New Roman"/>
              </a:rPr>
              <a:t>4. Irregolarità fiscali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it-IT" sz="1400" spc="-1" strike="noStrike">
                <a:solidFill>
                  <a:srgbClr val="000066"/>
                </a:solidFill>
                <a:latin typeface="Times New Roman"/>
              </a:rPr>
              <a:t>Irregolarità nell’emissione delle fatture e ingiustificate alterazioni dei libri contabili, frequente pagamento per contanti di fatture emesse, movimentazione di contante senza alcun riferimento ad operazioni economiche, rifiuto o reticenza nel produrre idonea documentazione in sede di revisione contabil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58920" y="1541520"/>
            <a:ext cx="6337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50000"/>
              </a:lnSpc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10000"/>
                </a:solidFill>
                <a:latin typeface="Times New Roman"/>
              </a:rPr>
              <a:t>Conflitto di interessi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marL="177840" indent="-177840">
              <a:lnSpc>
                <a:spcPct val="150000"/>
              </a:lnSpc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marL="177840" indent="-177840">
              <a:lnSpc>
                <a:spcPct val="150000"/>
              </a:lnSpc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10000"/>
                </a:solidFill>
                <a:latin typeface="Times New Roman"/>
              </a:rPr>
              <a:t>Difficoltà nella percezione del sospetto e nella riconducibilità al riciclaggio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marL="177840" indent="-177840">
              <a:lnSpc>
                <a:spcPct val="150000"/>
              </a:lnSpc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marL="177840" indent="-177840">
              <a:lnSpc>
                <a:spcPct val="150000"/>
              </a:lnSpc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10000"/>
                </a:solidFill>
                <a:latin typeface="Times New Roman"/>
              </a:rPr>
              <a:t>Qualità/numero delle segnalazioni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marL="177840" indent="-177840">
              <a:lnSpc>
                <a:spcPct val="150000"/>
              </a:lnSpc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marL="177840" indent="-177840">
              <a:lnSpc>
                <a:spcPct val="150000"/>
              </a:lnSpc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10000"/>
                </a:solidFill>
                <a:latin typeface="Times New Roman"/>
              </a:rPr>
              <a:t>Astensione, non sanzionata (art. 41, comma 5, d.lgs. 231/2007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marL="177840" indent="-177840">
              <a:lnSpc>
                <a:spcPct val="150000"/>
              </a:lnSpc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27280" y="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33"/>
                </a:solidFill>
                <a:latin typeface="Arial"/>
              </a:rPr>
              <a:t>Criticità delle SO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788000" y="3500280"/>
            <a:ext cx="39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marL="179280" indent="-179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489800" cy="7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33"/>
                </a:solidFill>
                <a:latin typeface="Arial"/>
              </a:rPr>
              <a:t>Gli standard internazionali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71280" y="1052640"/>
            <a:ext cx="7848360" cy="52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i="1" lang="it-IT" sz="2400" spc="-1" strike="noStrike">
                <a:solidFill>
                  <a:srgbClr val="c80000"/>
                </a:solidFill>
                <a:latin typeface="Arial"/>
              </a:rPr>
              <a:t>Progressivo ampliamento del novero dei reati presupposto e dei soggetti obbligati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10000"/>
                </a:solidFill>
                <a:latin typeface="Arial"/>
              </a:rPr>
              <a:t>Raccomandazioni del GAFI del 1989, riviste a febb 2012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10000"/>
                </a:solidFill>
                <a:latin typeface="Arial"/>
              </a:rPr>
              <a:t>Direttiva 1991/308/CE</a:t>
            </a:r>
            <a:r>
              <a:rPr b="1" lang="it-IT" sz="22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i="1" lang="it-IT" sz="2200" spc="-1" strike="noStrike">
                <a:solidFill>
                  <a:srgbClr val="010000"/>
                </a:solidFill>
                <a:latin typeface="Arial"/>
              </a:rPr>
              <a:t>sistema bancario e finanziario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7279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10000"/>
                </a:solidFill>
                <a:latin typeface="Arial"/>
              </a:rPr>
              <a:t>Direttiva 2001/97/CE</a:t>
            </a:r>
            <a:r>
              <a:rPr b="1" lang="it-IT" sz="22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i="1" lang="it-IT" sz="2200" spc="-1" strike="noStrike">
                <a:solidFill>
                  <a:srgbClr val="c80000"/>
                </a:solidFill>
                <a:latin typeface="Arial"/>
              </a:rPr>
              <a:t>attività non fin. e professionisti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10000"/>
                </a:solidFill>
                <a:latin typeface="Arial"/>
              </a:rPr>
              <a:t>Direttiva 2005/60/CE</a:t>
            </a:r>
            <a:r>
              <a:rPr b="1" i="1" lang="it-IT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i="1" lang="it-IT" sz="2200" spc="-1" strike="noStrike">
                <a:solidFill>
                  <a:srgbClr val="c80000"/>
                </a:solidFill>
                <a:latin typeface="Arial"/>
              </a:rPr>
              <a:t>abroga le precedenti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10000"/>
                </a:solidFill>
                <a:latin typeface="Arial"/>
                <a:ea typeface="Arial"/>
              </a:rPr>
              <a:t>●</a:t>
            </a: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i="1" lang="it-IT" sz="1600" spc="-1" strike="noStrike">
                <a:solidFill>
                  <a:srgbClr val="010000"/>
                </a:solidFill>
                <a:latin typeface="Arial"/>
              </a:rPr>
              <a:t>approccio basato sul rischio / </a:t>
            </a:r>
            <a:r>
              <a:rPr b="1" i="1" lang="it-IT" sz="1600" spc="-1" strike="noStrike">
                <a:solidFill>
                  <a:srgbClr val="c80000"/>
                </a:solidFill>
                <a:latin typeface="Arial"/>
              </a:rPr>
              <a:t>proporzionalità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i="1" lang="it-IT" sz="1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i="1" lang="it-IT" sz="1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i="1" lang="it-IT" sz="1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10000"/>
                </a:solidFill>
                <a:latin typeface="Arial"/>
                <a:ea typeface="Arial"/>
              </a:rPr>
              <a:t>● </a:t>
            </a:r>
            <a:r>
              <a:rPr b="1" i="1" lang="it-IT" sz="1600" spc="-1" strike="noStrike">
                <a:solidFill>
                  <a:srgbClr val="010000"/>
                </a:solidFill>
                <a:latin typeface="Arial"/>
                <a:ea typeface="Arial"/>
              </a:rPr>
              <a:t>adeguata verifica della clientela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i="1" lang="it-IT" sz="1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i="1" lang="it-IT" sz="1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i="1" lang="it-IT" sz="1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i="1" lang="it-IT" sz="1600" spc="-1" strike="noStrike">
                <a:solidFill>
                  <a:srgbClr val="010000"/>
                </a:solidFill>
                <a:latin typeface="Arial"/>
                <a:ea typeface="Arial"/>
              </a:rPr>
              <a:t>●</a:t>
            </a:r>
            <a:r>
              <a:rPr b="1" i="1" lang="it-IT" sz="1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i="1" lang="it-IT" sz="1600" spc="-1" strike="noStrike">
                <a:solidFill>
                  <a:srgbClr val="010000"/>
                </a:solidFill>
                <a:latin typeface="Arial"/>
              </a:rPr>
              <a:t>tracciabilità delle operazioni </a:t>
            </a:r>
            <a:r>
              <a:rPr b="1" i="1" lang="it-IT" sz="1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i="1" lang="it-IT" sz="1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i="1" lang="it-IT" sz="1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i="1" lang="it-IT" sz="1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i="1" lang="it-IT" sz="1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i="1" lang="it-IT" sz="1600" spc="-1" strike="noStrike">
                <a:solidFill>
                  <a:srgbClr val="010000"/>
                </a:solidFill>
                <a:latin typeface="Arial"/>
                <a:ea typeface="Arial"/>
              </a:rPr>
              <a:t>●</a:t>
            </a:r>
            <a:r>
              <a:rPr b="1" i="1" lang="it-IT" sz="1600" spc="-1" strike="noStrike">
                <a:solidFill>
                  <a:srgbClr val="010000"/>
                </a:solidFill>
                <a:latin typeface="Arial"/>
              </a:rPr>
              <a:t> segnalazione op. sospette (collaborazione attiva)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332000" y="0"/>
            <a:ext cx="7200720" cy="52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33"/>
                </a:solidFill>
                <a:latin typeface="Arial"/>
              </a:rPr>
              <a:t>Avvertenze per i segnalanti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10000"/>
                </a:solidFill>
                <a:latin typeface="Arial"/>
              </a:rPr>
              <a:t>A fronte dell’</a:t>
            </a:r>
            <a:r>
              <a:rPr b="1" lang="it-IT" sz="1600" spc="-1" strike="noStrike">
                <a:solidFill>
                  <a:srgbClr val="c80000"/>
                </a:solidFill>
                <a:latin typeface="Arial"/>
              </a:rPr>
              <a:t>obbligo per legge di ricevere un atto ovvero di eseguire una operazione</a:t>
            </a:r>
            <a:r>
              <a:rPr b="1" lang="it-IT" sz="1600" spc="-1" strike="noStrike">
                <a:solidFill>
                  <a:srgbClr val="010000"/>
                </a:solidFill>
                <a:latin typeface="Arial"/>
              </a:rPr>
              <a:t>, in caso di impossibilità di adempiere pienamente agli obblighi di adeguata verifica della clientela è </a:t>
            </a:r>
            <a:r>
              <a:rPr b="1" lang="it-IT" sz="1600" spc="-1" strike="noStrike">
                <a:solidFill>
                  <a:srgbClr val="c80000"/>
                </a:solidFill>
                <a:latin typeface="Arial"/>
              </a:rPr>
              <a:t>necessario valutare il carattere “sospetto”</a:t>
            </a:r>
            <a:r>
              <a:rPr b="1" lang="it-IT" sz="1600" spc="-1" strike="noStrike">
                <a:solidFill>
                  <a:srgbClr val="010000"/>
                </a:solidFill>
                <a:latin typeface="Arial"/>
              </a:rPr>
              <a:t> dell’operazione e quindi procedere all’eventuale segnalazion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10000"/>
                </a:solidFill>
                <a:latin typeface="Arial"/>
              </a:rPr>
              <a:t>L’operazione oggetto di segnalazione deve essere </a:t>
            </a:r>
            <a:r>
              <a:rPr b="1" lang="it-IT" sz="1600" spc="-1" strike="noStrike">
                <a:solidFill>
                  <a:srgbClr val="c80000"/>
                </a:solidFill>
                <a:latin typeface="Arial"/>
              </a:rPr>
              <a:t>descritta in ogni dettaglio</a:t>
            </a:r>
            <a:r>
              <a:rPr b="1" lang="it-IT" sz="1600" spc="-1" strike="noStrike">
                <a:solidFill>
                  <a:srgbClr val="010000"/>
                </a:solidFill>
                <a:latin typeface="Arial"/>
              </a:rPr>
              <a:t> (entità, finalità dichiarate, modalità di regolamento, eventuali riferimenti a intermediari intervenuti nel regolamento) unitamente alle </a:t>
            </a:r>
            <a:r>
              <a:rPr b="1" lang="it-IT" sz="1600" spc="-1" strike="noStrike">
                <a:solidFill>
                  <a:srgbClr val="c80000"/>
                </a:solidFill>
                <a:latin typeface="Arial"/>
              </a:rPr>
              <a:t>ragioni del sospetto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10000"/>
                </a:solidFill>
                <a:latin typeface="Arial"/>
              </a:rPr>
              <a:t>Cfr. provvedimento emanato dalla UIF il 4 maggio 2011, sul contenuto della SO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80000"/>
                </a:solidFill>
                <a:latin typeface="Arial"/>
              </a:rPr>
              <a:t>Segnalazioni non dovute</a:t>
            </a:r>
            <a:r>
              <a:rPr b="1" lang="it-IT" sz="1600" spc="-1" strike="noStrike">
                <a:solidFill>
                  <a:srgbClr val="01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10000"/>
                </a:solidFill>
                <a:latin typeface="Arial"/>
              </a:rPr>
              <a:t>- violazione norme sul contante (art. 49 d.lgs. 231/07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10000"/>
                </a:solidFill>
                <a:latin typeface="Arial"/>
              </a:rPr>
              <a:t>- generiche irregolarità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258920" y="1197000"/>
            <a:ext cx="6337440" cy="62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50000"/>
              </a:lnSpc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10000"/>
                </a:solidFill>
                <a:latin typeface="Times New Roman"/>
              </a:rPr>
              <a:t>La UIF approfondisce … le ipotesi di OMESSA SEGNALAZIONE di cui viene a conoscenza … (</a:t>
            </a:r>
            <a:r>
              <a:rPr b="1" i="1" lang="it-IT" sz="1600" spc="-1" strike="noStrike">
                <a:solidFill>
                  <a:srgbClr val="010000"/>
                </a:solidFill>
                <a:latin typeface="Times New Roman"/>
              </a:rPr>
              <a:t>art. 47 d.lgs. 231/07</a:t>
            </a:r>
            <a:r>
              <a:rPr b="1" lang="it-IT" sz="1600" spc="-1" strike="noStrike">
                <a:solidFill>
                  <a:srgbClr val="01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marL="177840" indent="-177840">
              <a:lnSpc>
                <a:spcPct val="150000"/>
              </a:lnSpc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marL="177840" indent="-177840">
              <a:lnSpc>
                <a:spcPct val="150000"/>
              </a:lnSpc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10000"/>
                </a:solidFill>
                <a:latin typeface="Times New Roman"/>
              </a:rPr>
              <a:t>Presupposti per la sussistenza della violazione: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lvl="4" marL="1828800">
              <a:lnSpc>
                <a:spcPct val="15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10000"/>
                </a:solidFill>
                <a:latin typeface="Times New Roman"/>
              </a:rPr>
              <a:t>a) anomalie oggettive dell’operatività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lvl="4" marL="1828800">
              <a:lnSpc>
                <a:spcPct val="15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10000"/>
                </a:solidFill>
                <a:latin typeface="Times New Roman"/>
              </a:rPr>
              <a:t>b) anomalie soggettive “</a:t>
            </a:r>
            <a:r>
              <a:rPr b="1" lang="it-IT" sz="1600" spc="-1" strike="noStrike">
                <a:solidFill>
                  <a:srgbClr val="010000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010000"/>
                </a:solidFill>
                <a:latin typeface="Times New Roman"/>
              </a:rPr>
              <a:t>“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lvl="4" marL="1828800">
              <a:lnSpc>
                <a:spcPct val="15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10000"/>
                </a:solidFill>
                <a:latin typeface="Times New Roman"/>
              </a:rPr>
              <a:t>c) accertamento del grado di conoscenza e del processo valutativo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marL="177840" indent="-177840">
              <a:lnSpc>
                <a:spcPct val="150000"/>
              </a:lnSpc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10000"/>
                </a:solidFill>
                <a:latin typeface="Times New Roman"/>
              </a:rPr>
              <a:t>Criticità: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lvl="4" marL="1828800">
              <a:lnSpc>
                <a:spcPct val="150000"/>
              </a:lnSpc>
              <a:buClr>
                <a:srgbClr val="99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10000"/>
                </a:solidFill>
                <a:latin typeface="Times New Roman"/>
              </a:rPr>
              <a:t>segnalazione tardiva / incomple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lvl="4" marL="1828800">
              <a:lnSpc>
                <a:spcPct val="150000"/>
              </a:lnSpc>
              <a:buClr>
                <a:srgbClr val="99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10000"/>
                </a:solidFill>
                <a:latin typeface="Times New Roman"/>
              </a:rPr>
              <a:t>determinazione dell’importo “sospetto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lvl="4" marL="1828800">
              <a:lnSpc>
                <a:spcPct val="150000"/>
              </a:lnSpc>
              <a:buClr>
                <a:srgbClr val="99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99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marL="177840" indent="-177840">
              <a:lnSpc>
                <a:spcPct val="150000"/>
              </a:lnSpc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marL="177840" indent="-177840">
              <a:lnSpc>
                <a:spcPct val="150000"/>
              </a:lnSpc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627280" y="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33"/>
                </a:solidFill>
                <a:latin typeface="Arial"/>
              </a:rPr>
              <a:t>L’omessa segnalazione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 flipH="1" flipV="1">
            <a:off x="7740720" y="1988640"/>
            <a:ext cx="288720" cy="32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826920" y="187200"/>
            <a:ext cx="8137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33"/>
                </a:solidFill>
                <a:latin typeface="Arial"/>
              </a:rPr>
              <a:t>SOS: percorso di analisi presso le autorità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55640" y="692280"/>
            <a:ext cx="1655640" cy="824040"/>
          </a:xfrm>
          <a:prstGeom prst="rect">
            <a:avLst/>
          </a:prstGeom>
          <a:solidFill>
            <a:srgbClr val="ffff00"/>
          </a:solidFill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99"/>
                </a:solidFill>
                <a:latin typeface="Times New Roman"/>
              </a:rPr>
              <a:t>Intermediari e altri soggetti obbligati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55640" y="2133720"/>
            <a:ext cx="1440000" cy="1366560"/>
          </a:xfrm>
          <a:prstGeom prst="ellipse">
            <a:avLst/>
          </a:prstGeom>
          <a:solidFill>
            <a:srgbClr val="ffefef">
              <a:alpha val="80000"/>
            </a:srgbClr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042920" y="249228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Times New Roman"/>
              </a:rPr>
              <a:t>UIF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476360" y="1557360"/>
            <a:ext cx="0" cy="576360"/>
          </a:xfrm>
          <a:prstGeom prst="line">
            <a:avLst/>
          </a:prstGeom>
          <a:ln w="1908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71640" y="162864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990000"/>
                </a:solidFill>
                <a:latin typeface="Times New Roman"/>
              </a:rPr>
              <a:t>SO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987640" y="2060640"/>
            <a:ext cx="1368360" cy="19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990000"/>
                </a:solidFill>
                <a:latin typeface="Times New Roman"/>
              </a:rPr>
              <a:t>esam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it-IT" sz="1400" spc="-1" strike="noStrike">
                <a:solidFill>
                  <a:srgbClr val="990000"/>
                </a:solidFill>
                <a:latin typeface="Times New Roman"/>
              </a:rPr>
              <a:t>prioritario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990000"/>
                </a:solidFill>
                <a:latin typeface="Times New Roman"/>
              </a:rPr>
              <a:t>ordinario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990000"/>
                </a:solidFill>
                <a:latin typeface="Times New Roman"/>
              </a:rPr>
              <a:t>archiviazione</a:t>
            </a:r>
            <a:r>
              <a:rPr b="1" lang="it-IT" sz="16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10000"/>
                </a:solidFill>
                <a:latin typeface="Times New Roman"/>
              </a:rPr>
              <a:t>(10 anni di evidenza)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059280" y="2060640"/>
            <a:ext cx="1296720" cy="1368360"/>
          </a:xfrm>
          <a:prstGeom prst="bracketPair">
            <a:avLst>
              <a:gd name="adj" fmla="val 17129"/>
            </a:avLst>
          </a:prstGeom>
          <a:noFill/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195640" y="2781360"/>
            <a:ext cx="86508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356000" y="206064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990000"/>
                </a:solidFill>
                <a:latin typeface="Times New Roman"/>
              </a:rPr>
              <a:t>analisi finanziaria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356000" y="2708280"/>
            <a:ext cx="2087640" cy="0"/>
          </a:xfrm>
          <a:prstGeom prst="line">
            <a:avLst/>
          </a:prstGeom>
          <a:ln w="22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859280" y="2708280"/>
            <a:ext cx="0" cy="28908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5867280" y="2421000"/>
            <a:ext cx="0" cy="28872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427640" y="299736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990000"/>
                </a:solidFill>
                <a:latin typeface="Times New Roman"/>
              </a:rPr>
              <a:t>approfondimenti cartolari o ispettivi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427640" y="2060640"/>
            <a:ext cx="1800000" cy="360360"/>
          </a:xfrm>
          <a:prstGeom prst="rect">
            <a:avLst/>
          </a:prstGeom>
          <a:noFill/>
          <a:ln w="19080">
            <a:solidFill>
              <a:srgbClr val="3366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00720" y="2997360"/>
            <a:ext cx="1800000" cy="502920"/>
          </a:xfrm>
          <a:prstGeom prst="rect">
            <a:avLst/>
          </a:prstGeom>
          <a:noFill/>
          <a:ln w="19080">
            <a:solidFill>
              <a:srgbClr val="3366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59640" y="5013360"/>
            <a:ext cx="118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990000"/>
                </a:solidFill>
                <a:latin typeface="Times New Roman"/>
              </a:rPr>
              <a:t>attività investigativa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859280" y="4365720"/>
            <a:ext cx="1224000" cy="647640"/>
          </a:xfrm>
          <a:prstGeom prst="ellipse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788000" y="4508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990000"/>
                </a:solidFill>
                <a:latin typeface="Times New Roman"/>
              </a:rPr>
              <a:t>archiviazion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643280" y="5373720"/>
            <a:ext cx="1440000" cy="719280"/>
          </a:xfrm>
          <a:prstGeom prst="ellipse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643280" y="5516640"/>
            <a:ext cx="136872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990000"/>
                </a:solidFill>
                <a:latin typeface="Times New Roman"/>
              </a:rPr>
              <a:t>AG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732720" y="1844640"/>
            <a:ext cx="1009440" cy="276480"/>
          </a:xfrm>
          <a:prstGeom prst="rect">
            <a:avLst/>
          </a:prstGeom>
          <a:solidFill>
            <a:srgbClr val="d9ffec"/>
          </a:solidFill>
          <a:ln w="1908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10000"/>
                </a:solidFill>
                <a:latin typeface="Times New Roman"/>
              </a:rPr>
              <a:t>GF (NSPV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028000" y="1989000"/>
            <a:ext cx="0" cy="273528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6226920" y="4076640"/>
            <a:ext cx="71640" cy="2305080"/>
          </a:xfrm>
          <a:custGeom>
            <a:avLst/>
            <a:gdLst>
              <a:gd name="textAreaLeft" fmla="*/ -360 w 71640"/>
              <a:gd name="textAreaRight" fmla="*/ 25560 w 7164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04000" y="3141720"/>
            <a:ext cx="936720" cy="891720"/>
          </a:xfrm>
          <a:prstGeom prst="rect">
            <a:avLst/>
          </a:prstGeom>
          <a:solidFill>
            <a:srgbClr val="d9ffec"/>
          </a:solidFill>
          <a:ln w="1908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10000"/>
                </a:solidFill>
                <a:latin typeface="Times New Roman"/>
              </a:rPr>
              <a:t>AG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10000"/>
                </a:solidFill>
                <a:latin typeface="Times New Roman"/>
              </a:rPr>
              <a:t>in ipotesi di reato 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10000"/>
                </a:solidFill>
                <a:latin typeface="Times New Roman"/>
              </a:rPr>
              <a:t>( 331 cpp)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32720" y="2565360"/>
            <a:ext cx="1009440" cy="276480"/>
          </a:xfrm>
          <a:prstGeom prst="rect">
            <a:avLst/>
          </a:prstGeom>
          <a:solidFill>
            <a:srgbClr val="d9ffec"/>
          </a:solidFill>
          <a:ln w="1908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10000"/>
                </a:solidFill>
                <a:latin typeface="Times New Roman"/>
              </a:rPr>
              <a:t>DIA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443640" y="1989000"/>
            <a:ext cx="0" cy="151308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443640" y="3500280"/>
            <a:ext cx="3603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443640" y="2708280"/>
            <a:ext cx="28908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443640" y="1989000"/>
            <a:ext cx="28908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716360" y="2565360"/>
            <a:ext cx="1225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cc00"/>
                </a:solidFill>
                <a:latin typeface="Times New Roman"/>
              </a:rPr>
              <a:t>relazion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cc00"/>
                </a:solidFill>
                <a:latin typeface="Times New Roman"/>
              </a:rPr>
              <a:t>tecnica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32720" y="1052640"/>
            <a:ext cx="1009440" cy="459000"/>
          </a:xfrm>
          <a:prstGeom prst="rect">
            <a:avLst/>
          </a:prstGeom>
          <a:solidFill>
            <a:srgbClr val="d9ffec"/>
          </a:solidFill>
          <a:ln w="1908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10000"/>
                </a:solidFill>
                <a:latin typeface="Times New Roman"/>
              </a:rPr>
              <a:t>GF (Reparti territoriali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7380360" y="1557360"/>
            <a:ext cx="0" cy="2160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740720" y="1268280"/>
            <a:ext cx="576360" cy="0"/>
          </a:xfrm>
          <a:prstGeom prst="line">
            <a:avLst/>
          </a:prstGeom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317080" y="1268280"/>
            <a:ext cx="0" cy="4537080"/>
          </a:xfrm>
          <a:prstGeom prst="line">
            <a:avLst/>
          </a:prstGeom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740720" y="2708280"/>
            <a:ext cx="863640" cy="73080"/>
          </a:xfrm>
          <a:prstGeom prst="rightArrow">
            <a:avLst>
              <a:gd name="adj1" fmla="val 50000"/>
              <a:gd name="adj2" fmla="val 295443"/>
            </a:avLst>
          </a:prstGeom>
          <a:solidFill>
            <a:srgbClr val="cbff37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740720" y="1989000"/>
            <a:ext cx="863640" cy="71640"/>
          </a:xfrm>
          <a:prstGeom prst="rightArrow">
            <a:avLst>
              <a:gd name="adj1" fmla="val 50000"/>
              <a:gd name="adj2" fmla="val 301382"/>
            </a:avLst>
          </a:prstGeom>
          <a:solidFill>
            <a:srgbClr val="cbff37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604360" y="1484280"/>
            <a:ext cx="360360" cy="1944720"/>
          </a:xfrm>
          <a:prstGeom prst="ellipse">
            <a:avLst/>
          </a:prstGeom>
          <a:solidFill>
            <a:srgbClr val="ffffcc"/>
          </a:solidFill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00"/>
                </a:solidFill>
                <a:latin typeface="Times New Roman"/>
              </a:rPr>
              <a:t>P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00"/>
                </a:solidFill>
                <a:latin typeface="Times New Roman"/>
              </a:rPr>
              <a:t>N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00"/>
                </a:solidFill>
                <a:latin typeface="Times New Roman"/>
              </a:rPr>
              <a:t>A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8675640" y="3068280"/>
            <a:ext cx="73080" cy="64764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250840" y="3716280"/>
            <a:ext cx="89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010000"/>
                </a:solidFill>
                <a:latin typeface="Times New Roman"/>
              </a:rPr>
              <a:t>(crim. org.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6300720" y="4724280"/>
            <a:ext cx="1727280" cy="0"/>
          </a:xfrm>
          <a:prstGeom prst="line">
            <a:avLst/>
          </a:prstGeom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6300360" y="5805360"/>
            <a:ext cx="2016360" cy="0"/>
          </a:xfrm>
          <a:prstGeom prst="line">
            <a:avLst/>
          </a:prstGeom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1042920" y="1341000"/>
            <a:ext cx="734544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6760" indent="0">
              <a:lnSpc>
                <a:spcPct val="10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9999"/>
              </a:solidFill>
              <a:latin typeface="Arial"/>
            </a:endParaRPr>
          </a:p>
          <a:p>
            <a:pPr marL="266760" indent="-266760" algn="just">
              <a:lnSpc>
                <a:spcPct val="105000"/>
              </a:lnSpc>
              <a:spcBef>
                <a:spcPts val="612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10000"/>
                </a:solidFill>
                <a:latin typeface="Arial"/>
              </a:rPr>
              <a:t>Migliorare la qualità delle SOS</a:t>
            </a:r>
            <a:endParaRPr b="0" lang="en-US" sz="1400" spc="-1" strike="noStrike">
              <a:solidFill>
                <a:srgbClr val="009999"/>
              </a:solidFill>
              <a:latin typeface="Arial"/>
            </a:endParaRPr>
          </a:p>
          <a:p>
            <a:pPr marL="266760" indent="-266760" algn="just">
              <a:lnSpc>
                <a:spcPct val="105000"/>
              </a:lnSpc>
              <a:spcBef>
                <a:spcPts val="612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10000"/>
                </a:solidFill>
                <a:latin typeface="Arial"/>
              </a:rPr>
              <a:t>Da maggio 2011…vantaggi del nuovo schema di segnalazione</a:t>
            </a:r>
            <a:endParaRPr b="0" lang="en-US" sz="1400" spc="-1" strike="noStrike">
              <a:solidFill>
                <a:srgbClr val="009999"/>
              </a:solidFill>
              <a:latin typeface="Arial"/>
            </a:endParaRPr>
          </a:p>
          <a:p>
            <a:pPr lvl="1" marL="914400" indent="-457200" algn="just">
              <a:lnSpc>
                <a:spcPct val="105000"/>
              </a:lnSpc>
              <a:spcBef>
                <a:spcPts val="56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10000"/>
                </a:solidFill>
                <a:latin typeface="Arial"/>
              </a:rPr>
              <a:t>uniformità moduli per diverse categorie di segnalanti</a:t>
            </a: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  <a:p>
            <a:pPr lvl="1" marL="914400" indent="-457200" algn="just">
              <a:lnSpc>
                <a:spcPct val="105000"/>
              </a:lnSpc>
              <a:spcBef>
                <a:spcPts val="56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10000"/>
                </a:solidFill>
                <a:latin typeface="Arial"/>
              </a:rPr>
              <a:t>campi obbligatori in forma strutturata, per rafforzare analisi finanziaria e agevolare rilevazioni statistiche</a:t>
            </a: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  <a:p>
            <a:pPr lvl="1" marL="914400" indent="-457200" algn="just">
              <a:lnSpc>
                <a:spcPct val="105000"/>
              </a:lnSpc>
              <a:spcBef>
                <a:spcPts val="56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10000"/>
                </a:solidFill>
                <a:latin typeface="Arial"/>
              </a:rPr>
              <a:t>quadro informativo completo ed esaustivo, anche per ridurre i contatti con la UIF per gli approfondimenti</a:t>
            </a: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  <a:p>
            <a:pPr lvl="1" marL="914400" indent="0" algn="just">
              <a:lnSpc>
                <a:spcPct val="105000"/>
              </a:lnSpc>
              <a:spcBef>
                <a:spcPts val="56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  <a:p>
            <a:pPr marL="266760" indent="-266760">
              <a:lnSpc>
                <a:spcPct val="105000"/>
              </a:lnSpc>
              <a:spcBef>
                <a:spcPts val="612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10000"/>
                </a:solidFill>
                <a:latin typeface="Arial"/>
              </a:rPr>
              <a:t>Collaborazione con i segnalanti e con le Autorità</a:t>
            </a:r>
            <a:endParaRPr b="0" lang="en-US" sz="1400" spc="-1" strike="noStrike">
              <a:solidFill>
                <a:srgbClr val="009999"/>
              </a:solidFill>
              <a:latin typeface="Arial"/>
            </a:endParaRPr>
          </a:p>
          <a:p>
            <a:pPr marL="266760" indent="-266760">
              <a:lnSpc>
                <a:spcPct val="105000"/>
              </a:lnSpc>
              <a:spcBef>
                <a:spcPts val="612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10000"/>
                </a:solidFill>
                <a:latin typeface="Arial"/>
              </a:rPr>
              <a:t>Dall’analisi micro all’analisi macro</a:t>
            </a:r>
            <a:r>
              <a:rPr b="1" lang="it-IT" sz="1400" spc="-1" strike="noStrike">
                <a:solidFill>
                  <a:srgbClr val="010000"/>
                </a:solidFill>
                <a:latin typeface="Arial"/>
                <a:ea typeface="Arial"/>
              </a:rPr>
              <a:t>→ i fenomeni (es. usura, evasione fiscale, corruzione, veicoli fiduciari, ecc.)</a:t>
            </a:r>
            <a:endParaRPr b="0" lang="en-US" sz="1400" spc="-1" strike="noStrike">
              <a:solidFill>
                <a:srgbClr val="009999"/>
              </a:solidFill>
              <a:latin typeface="Arial"/>
            </a:endParaRPr>
          </a:p>
          <a:p>
            <a:pPr marL="266760" indent="0" algn="ctr">
              <a:lnSpc>
                <a:spcPct val="10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8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266760" indent="0" algn="ctr">
              <a:lnSpc>
                <a:spcPct val="10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80000"/>
                </a:solidFill>
                <a:latin typeface="Arial"/>
              </a:rPr>
              <a:t>Esigenza di diffondere e far maturare cultura antiriciclaggio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lvl="1" marL="914400" indent="0" algn="just">
              <a:lnSpc>
                <a:spcPct val="105000"/>
              </a:lnSpc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086000" y="-1440"/>
            <a:ext cx="21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33"/>
                </a:solidFill>
                <a:latin typeface="Arial"/>
              </a:rPr>
              <a:t>Prospettive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1187280" y="1412640"/>
            <a:ext cx="7345440" cy="41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660033"/>
                </a:solidFill>
                <a:latin typeface="Garamond"/>
              </a:rPr>
              <a:t>FINE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0033"/>
                </a:solidFill>
                <a:latin typeface="Garamond"/>
              </a:rPr>
              <a:t>dr.ssa Alessandra Cuzzocrea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0033"/>
                </a:solidFill>
                <a:latin typeface="Garamond"/>
              </a:rPr>
              <a:t>Banca d’Italia-Unità d’Informazione Finanziaria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0033"/>
                </a:solidFill>
                <a:latin typeface="Garamond"/>
              </a:rPr>
              <a:t>Divisione Normativa e Rapporti Istituzionali 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9966"/>
                </a:solidFill>
                <a:uFillTx/>
                <a:latin typeface="Garamond"/>
                <a:hlinkClick r:id="rId1"/>
              </a:rPr>
              <a:t>alessandra.cuzzocrea@bancaditalia.it</a:t>
            </a:r>
            <a:endParaRPr b="0" lang="en-US" sz="14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0033"/>
                </a:solidFill>
                <a:latin typeface="Garamond"/>
              </a:rPr>
              <a:t>tel. 06 4792-6624</a:t>
            </a:r>
            <a:endParaRPr b="0" lang="en-US" sz="14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116000" y="189000"/>
            <a:ext cx="770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5640" y="115560"/>
            <a:ext cx="7343640" cy="85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33"/>
                </a:solidFill>
                <a:latin typeface="Arial"/>
              </a:rPr>
              <a:t>L’evoluzione della normativa nazionale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61080" cy="483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10000"/>
                </a:solidFill>
                <a:latin typeface="Arial"/>
              </a:rPr>
              <a:t>Dalla</a:t>
            </a: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c80000"/>
                </a:solidFill>
                <a:latin typeface="Arial"/>
              </a:rPr>
              <a:t>Legge 197/1991</a:t>
            </a:r>
            <a:r>
              <a:rPr b="0" lang="it-IT" sz="1800" spc="-1" strike="noStrike">
                <a:solidFill>
                  <a:srgbClr val="010000"/>
                </a:solidFill>
                <a:latin typeface="Arial"/>
              </a:rPr>
              <a:t>, che introduce il sistema antiriciclaggio (SOS dirette alle questure)….</a:t>
            </a:r>
            <a:r>
              <a:rPr b="1" lang="it-IT" sz="1800" spc="-1" strike="noStrike">
                <a:solidFill>
                  <a:srgbClr val="c80000"/>
                </a:solidFill>
                <a:latin typeface="Arial"/>
              </a:rPr>
              <a:t>D.lgs. 153/1997</a:t>
            </a:r>
            <a:r>
              <a:rPr b="0" lang="it-IT" sz="1800" spc="-1" strike="noStrike">
                <a:solidFill>
                  <a:srgbClr val="010000"/>
                </a:solidFill>
                <a:latin typeface="Arial"/>
              </a:rPr>
              <a:t> accentra le funzioni di FIU presso l'Ufficio Italiano dei Cambi…; </a:t>
            </a:r>
            <a:r>
              <a:rPr b="1" lang="it-IT" sz="1800" spc="-1" strike="noStrike">
                <a:solidFill>
                  <a:srgbClr val="c80000"/>
                </a:solidFill>
                <a:latin typeface="Arial"/>
              </a:rPr>
              <a:t>D.lgs. 56/2004</a:t>
            </a:r>
            <a:r>
              <a:rPr b="0" lang="it-IT" sz="1800" spc="-1" strike="noStrike">
                <a:solidFill>
                  <a:srgbClr val="010000"/>
                </a:solidFill>
                <a:latin typeface="Arial"/>
              </a:rPr>
              <a:t>, che</a:t>
            </a:r>
            <a:r>
              <a:rPr b="0" lang="it-IT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10000"/>
                </a:solidFill>
                <a:latin typeface="Arial"/>
              </a:rPr>
              <a:t>estende gli obblighi di collaborazione attiva e passiva anche ai </a:t>
            </a:r>
            <a:r>
              <a:rPr b="0" lang="it-IT" sz="1800" spc="-1" strike="noStrike">
                <a:solidFill>
                  <a:srgbClr val="c80000"/>
                </a:solidFill>
                <a:latin typeface="Arial"/>
              </a:rPr>
              <a:t>professionisti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 algn="just">
              <a:spcBef>
                <a:spcPts val="451"/>
              </a:spcBef>
              <a:spcAft>
                <a:spcPts val="451"/>
              </a:spcAft>
              <a:buClr>
                <a:srgbClr val="660033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10000"/>
                </a:solidFill>
                <a:latin typeface="Arial"/>
              </a:rPr>
              <a:t>D.M. n. 141 e 143 e Provvedimenti UIC del febbraio 2006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10000"/>
                </a:solidFill>
                <a:latin typeface="Arial"/>
              </a:rPr>
              <a:t>al </a:t>
            </a:r>
            <a:r>
              <a:rPr b="1" lang="it-IT" sz="1800" spc="-1" strike="noStrike">
                <a:solidFill>
                  <a:srgbClr val="c80000"/>
                </a:solidFill>
                <a:latin typeface="Arial"/>
              </a:rPr>
              <a:t>D.lgs. 231/2007</a:t>
            </a:r>
            <a:r>
              <a:rPr b="0" lang="it-IT" sz="1800" spc="-1" strike="noStrike">
                <a:solidFill>
                  <a:srgbClr val="010000"/>
                </a:solidFill>
                <a:latin typeface="Arial"/>
              </a:rPr>
              <a:t> e successive modificazioni e integrazioni (D.lgs. 151/2009, D.L. 78/2010): attua la terza Direttiva AML; dichiara la soppressione dell’UIC, ne fa confluire le funzioni istituzionali in Banca d’Italia presso la quale istituisce l’Unità di Informazione Finanziaria; conferma gli obblighi dei professionisti (proporzionalità)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02920" y="115920"/>
            <a:ext cx="6769080" cy="60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33"/>
                </a:solidFill>
                <a:latin typeface="Arial"/>
              </a:rPr>
              <a:t>Apparato antiriciclaggio</a:t>
            </a:r>
            <a:br>
              <a:rPr sz="2800"/>
            </a:br>
            <a:r>
              <a:rPr b="1" lang="it-IT" sz="2400" spc="-1" strike="noStrike">
                <a:solidFill>
                  <a:srgbClr val="660033"/>
                </a:solidFill>
                <a:latin typeface="Arial"/>
              </a:rPr>
              <a:t>(componente pubblica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"/>
          <p:cNvSpPr/>
          <p:nvPr/>
        </p:nvSpPr>
        <p:spPr>
          <a:xfrm>
            <a:off x="2771640" y="907920"/>
            <a:ext cx="3818160" cy="1513080"/>
          </a:xfrm>
          <a:prstGeom prst="flowChartConnector">
            <a:avLst/>
          </a:pr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99"/>
                </a:solidFill>
                <a:latin typeface="Arial"/>
              </a:rPr>
              <a:t>Ministero Economia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99"/>
                </a:solidFill>
                <a:latin typeface="Arial"/>
              </a:rPr>
              <a:t>Comitato Sicurezza Finanziaria (CSF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25800" y="2997360"/>
            <a:ext cx="1152360" cy="360360"/>
          </a:xfrm>
          <a:prstGeom prst="flowChartConnector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cxnSp>
        <p:nvCxnSpPr>
          <p:cNvPr id="107" name=""/>
          <p:cNvCxnSpPr/>
          <p:nvPr/>
        </p:nvCxnSpPr>
        <p:spPr>
          <a:xfrm flipH="1">
            <a:off x="5344560" y="5062680"/>
            <a:ext cx="1945080" cy="405360"/>
          </a:xfrm>
          <a:prstGeom prst="straightConnector1">
            <a:avLst/>
          </a:prstGeom>
          <a:ln w="0">
            <a:noFill/>
          </a:ln>
        </p:spPr>
      </p:cxnSp>
      <p:sp>
        <p:nvSpPr>
          <p:cNvPr id="108" name=""/>
          <p:cNvSpPr/>
          <p:nvPr/>
        </p:nvSpPr>
        <p:spPr>
          <a:xfrm>
            <a:off x="5364000" y="3068640"/>
            <a:ext cx="1441440" cy="2087640"/>
          </a:xfrm>
          <a:prstGeom prst="rect">
            <a:avLst/>
          </a:prstGeom>
          <a:noFill/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99"/>
                </a:solidFill>
                <a:latin typeface="Arial"/>
              </a:rPr>
              <a:t>Guardia di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99"/>
                </a:solidFill>
                <a:latin typeface="Arial"/>
              </a:rPr>
              <a:t>Finanza (NSPV)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99"/>
                </a:solidFill>
                <a:latin typeface="Arial"/>
              </a:rPr>
              <a:t>DIA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Arial"/>
              </a:rPr>
              <a:t>Approfondimenti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Arial"/>
              </a:rPr>
              <a:t>investigativi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236000" y="3573360"/>
            <a:ext cx="1728720" cy="3095640"/>
          </a:xfrm>
          <a:prstGeom prst="rect">
            <a:avLst/>
          </a:prstGeom>
          <a:noFill/>
          <a:ln w="19080">
            <a:solidFill>
              <a:srgbClr val="0000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cc"/>
                </a:solidFill>
                <a:latin typeface="Arial"/>
              </a:rPr>
              <a:t>Min. Giustizia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6600"/>
                </a:solidFill>
                <a:latin typeface="Arial"/>
              </a:rPr>
              <a:t>Vigilanza su collegi 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6600"/>
                </a:solidFill>
                <a:latin typeface="Arial"/>
              </a:rPr>
              <a:t>e ordini professionali 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6600"/>
                </a:solidFill>
                <a:latin typeface="Arial"/>
              </a:rPr>
              <a:t>(che promuovono 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6600"/>
                </a:solidFill>
                <a:latin typeface="Arial"/>
              </a:rPr>
              <a:t>e controllano 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6600"/>
                </a:solidFill>
                <a:latin typeface="Arial"/>
              </a:rPr>
              <a:t>osservanza  obblighi 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6600"/>
                </a:solidFill>
                <a:latin typeface="Arial"/>
              </a:rPr>
              <a:t>da parte degli iscritti)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cc"/>
                </a:solidFill>
                <a:latin typeface="Arial"/>
              </a:rPr>
              <a:t>Min. Giustizia e Interni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6600"/>
                </a:solidFill>
                <a:latin typeface="Arial"/>
              </a:rPr>
              <a:t>Decreti su indicatori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6600"/>
                </a:solidFill>
                <a:latin typeface="Arial"/>
              </a:rPr>
              <a:t>di anomalia 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6600"/>
                </a:solidFill>
                <a:latin typeface="Arial"/>
              </a:rPr>
              <a:t>per  professionisti 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6600"/>
                </a:solidFill>
                <a:latin typeface="Arial"/>
              </a:rPr>
              <a:t>operatori non finanziari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26920" y="2997360"/>
            <a:ext cx="1730520" cy="3168360"/>
          </a:xfrm>
          <a:prstGeom prst="rect">
            <a:avLst/>
          </a:prstGeom>
          <a:noFill/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99"/>
                </a:solidFill>
                <a:latin typeface="Arial"/>
              </a:rPr>
              <a:t>Autorità 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99"/>
                </a:solidFill>
                <a:latin typeface="Arial"/>
              </a:rPr>
              <a:t>di Vigilanza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99"/>
                </a:solidFill>
                <a:latin typeface="Arial"/>
              </a:rPr>
              <a:t>di settor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003399"/>
                </a:solidFill>
                <a:latin typeface="Arial"/>
              </a:rPr>
              <a:t>(Banca d’Italia,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99"/>
                </a:solidFill>
                <a:latin typeface="Arial"/>
              </a:rPr>
              <a:t>Consob, Isvap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Arial"/>
              </a:rPr>
              <a:t>Rispetto 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Arial"/>
              </a:rPr>
              <a:t>degli obblighi.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Arial"/>
              </a:rPr>
              <a:t>Disposizioni su 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Arial"/>
              </a:rPr>
              <a:t>adeguata verifica, 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Arial"/>
              </a:rPr>
              <a:t>organizzazione, registra-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Arial"/>
              </a:rPr>
              <a:t>zione,  procedur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Arial"/>
              </a:rPr>
              <a:t>e controlli interni.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101080" y="2708280"/>
            <a:ext cx="0" cy="86508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71640" y="3068640"/>
            <a:ext cx="2232000" cy="3168720"/>
          </a:xfrm>
          <a:prstGeom prst="rect">
            <a:avLst/>
          </a:prstGeom>
          <a:noFill/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99"/>
                </a:solidFill>
                <a:latin typeface="Arial"/>
              </a:rPr>
              <a:t>Unità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99"/>
                </a:solidFill>
                <a:latin typeface="Arial"/>
              </a:rPr>
              <a:t>Informazion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99"/>
                </a:solidFill>
                <a:latin typeface="Arial"/>
              </a:rPr>
              <a:t>Finanziaria 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99"/>
                </a:solidFill>
                <a:latin typeface="Arial"/>
              </a:rPr>
              <a:t>(UIF)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Arial"/>
              </a:rPr>
              <a:t>SOS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Arial"/>
              </a:rPr>
              <a:t>Indicatori di anomalia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Arial"/>
              </a:rPr>
              <a:t>Modelli e schemi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Arial"/>
              </a:rPr>
              <a:t>di comportamenti anomali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Arial"/>
              </a:rPr>
              <a:t>Analisi e studi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Arial"/>
              </a:rPr>
              <a:t>Controlli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84720" y="2708280"/>
            <a:ext cx="0" cy="28728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28000" y="2708280"/>
            <a:ext cx="7128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958160" y="3213000"/>
            <a:ext cx="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51280" y="2708280"/>
            <a:ext cx="0" cy="28728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16360" y="2421000"/>
            <a:ext cx="0" cy="28872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19280" y="2708280"/>
            <a:ext cx="641016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19280" y="2708280"/>
            <a:ext cx="0" cy="28908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56000" y="2852640"/>
            <a:ext cx="2663640" cy="37450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2560" y="-100440"/>
            <a:ext cx="74898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it-IT" sz="2800" spc="-1" strike="noStrike">
                <a:solidFill>
                  <a:srgbClr val="660033"/>
                </a:solidFill>
                <a:latin typeface="Arial"/>
              </a:rPr>
              <a:t>Posizione istituzionale della UIF</a:t>
            </a:r>
            <a:br>
              <a:rPr sz="2800"/>
            </a:b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03280" y="836280"/>
            <a:ext cx="6624720" cy="33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170640" indent="-170640">
              <a:lnSpc>
                <a:spcPct val="105000"/>
              </a:lnSpc>
              <a:spcBef>
                <a:spcPts val="499"/>
              </a:spcBef>
              <a:buClr>
                <a:srgbClr val="8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Istituita presso la Banca d'Italia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170640" indent="-170640">
              <a:lnSpc>
                <a:spcPct val="105000"/>
              </a:lnSpc>
              <a:spcBef>
                <a:spcPts val="499"/>
              </a:spcBef>
              <a:buClr>
                <a:srgbClr val="8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Esercita le proprie funzioni “</a:t>
            </a:r>
            <a:r>
              <a:rPr b="1" i="1" lang="it-IT" sz="2000" spc="-1" strike="noStrike">
                <a:solidFill>
                  <a:srgbClr val="010000"/>
                </a:solidFill>
                <a:latin typeface="Arial"/>
              </a:rPr>
              <a:t>in piena autonomia e indipendenza</a:t>
            </a: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” 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170640" indent="-170640" algn="just">
              <a:lnSpc>
                <a:spcPct val="105000"/>
              </a:lnSpc>
              <a:spcBef>
                <a:spcPts val="499"/>
              </a:spcBef>
              <a:buClr>
                <a:srgbClr val="8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La Banca ne disciplina, con regolamento (21/12/2007), l'organizzazione e il funzionamento e le attribuisce “</a:t>
            </a:r>
            <a:r>
              <a:rPr b="1" i="1" lang="it-IT" sz="2000" spc="-1" strike="noStrike">
                <a:solidFill>
                  <a:srgbClr val="010000"/>
                </a:solidFill>
                <a:latin typeface="Arial"/>
              </a:rPr>
              <a:t>mezzi finanziari e risorse idonei ad assicurare l'efficace perseguimento dei suoi fini istituzionali</a:t>
            </a: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170640" indent="-170640" algn="just">
              <a:lnSpc>
                <a:spcPct val="105000"/>
              </a:lnSpc>
              <a:spcBef>
                <a:spcPts val="1001"/>
              </a:spcBef>
              <a:buClr>
                <a:srgbClr val="8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Al Direttore “</a:t>
            </a:r>
            <a:r>
              <a:rPr b="1" i="1" lang="it-IT" sz="2000" spc="-1" strike="noStrike">
                <a:solidFill>
                  <a:srgbClr val="010000"/>
                </a:solidFill>
                <a:latin typeface="Arial"/>
              </a:rPr>
              <a:t>compete </a:t>
            </a:r>
            <a:r>
              <a:rPr b="1" i="1" lang="it-IT" sz="2000" spc="-1" strike="noStrike" u="sng">
                <a:solidFill>
                  <a:srgbClr val="010000"/>
                </a:solidFill>
                <a:uFillTx/>
                <a:latin typeface="Arial"/>
              </a:rPr>
              <a:t>in autonomia</a:t>
            </a:r>
            <a:r>
              <a:rPr b="1" i="1" lang="it-IT" sz="2000" spc="-1" strike="noStrike">
                <a:solidFill>
                  <a:srgbClr val="010000"/>
                </a:solidFill>
                <a:latin typeface="Arial"/>
              </a:rPr>
              <a:t> la responsabilità della gestione</a:t>
            </a:r>
            <a:r>
              <a:rPr b="1" lang="it-IT" sz="2000" spc="-1" strike="noStrike">
                <a:solidFill>
                  <a:srgbClr val="010000"/>
                </a:solidFill>
                <a:latin typeface="Arial"/>
              </a:rPr>
              <a:t>” 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92360" y="4422600"/>
            <a:ext cx="475308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just">
              <a:lnSpc>
                <a:spcPct val="100000"/>
              </a:lnSpc>
              <a:spcBef>
                <a:spcPts val="349"/>
              </a:spcBef>
              <a:buClr>
                <a:srgbClr val="8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10000"/>
                </a:solidFill>
                <a:latin typeface="Arial"/>
              </a:rPr>
              <a:t>Nomina del Direttorio B.I. su proposta del Governator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marL="177840" indent="-177840" algn="just">
              <a:lnSpc>
                <a:spcPct val="100000"/>
              </a:lnSpc>
              <a:spcBef>
                <a:spcPts val="349"/>
              </a:spcBef>
              <a:buClr>
                <a:srgbClr val="8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10000"/>
                </a:solidFill>
                <a:latin typeface="Arial"/>
              </a:rPr>
              <a:t>Tra persone dotate di adeguati requisiti di onorabilità, professionalità e conoscenza del sistema finanziario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marL="177840" indent="-177840" algn="just">
              <a:lnSpc>
                <a:spcPct val="100000"/>
              </a:lnSpc>
              <a:spcBef>
                <a:spcPts val="349"/>
              </a:spcBef>
              <a:buClr>
                <a:srgbClr val="8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10000"/>
                </a:solidFill>
                <a:latin typeface="Arial"/>
              </a:rPr>
              <a:t>Mandato di 5 anni, rinnovabili per altri 5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64000" y="5661000"/>
            <a:ext cx="52560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10000"/>
                </a:solidFill>
                <a:latin typeface="Arial"/>
              </a:rPr>
              <a:t>(Art. 6 d.lgs. n. 231/2007)</a:t>
            </a:r>
            <a:br>
              <a:rPr sz="1400"/>
            </a:b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90560" y="0"/>
            <a:ext cx="83534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33"/>
                </a:solidFill>
                <a:latin typeface="Arial"/>
              </a:rPr>
              <a:t>L’Unità di Informazione Finanziaria: </a:t>
            </a:r>
            <a:br>
              <a:rPr sz="2800"/>
            </a:br>
            <a:r>
              <a:rPr b="1" lang="it-IT" sz="2800" spc="-1" strike="noStrike">
                <a:solidFill>
                  <a:srgbClr val="660033"/>
                </a:solidFill>
                <a:latin typeface="Arial"/>
              </a:rPr>
              <a:t>struttura organizzativa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4284720" y="1700280"/>
            <a:ext cx="1155600" cy="792000"/>
          </a:xfrm>
          <a:prstGeom prst="rect">
            <a:avLst/>
          </a:prstGeom>
          <a:noFill/>
          <a:ln w="255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10000"/>
                </a:solidFill>
                <a:latin typeface="Arial"/>
              </a:rPr>
              <a:t>DIREZION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24360" y="2565360"/>
            <a:ext cx="1656000" cy="647640"/>
          </a:xfrm>
          <a:prstGeom prst="ellipse">
            <a:avLst/>
          </a:prstGeom>
          <a:noFill/>
          <a:ln w="255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10000"/>
                </a:solidFill>
                <a:latin typeface="Arial"/>
              </a:rPr>
              <a:t>Dirigenti a disposizion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71640" y="3716280"/>
            <a:ext cx="1082520" cy="720720"/>
          </a:xfrm>
          <a:prstGeom prst="rect">
            <a:avLst/>
          </a:prstGeom>
          <a:noFill/>
          <a:ln w="255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10000"/>
                </a:solidFill>
                <a:latin typeface="Arial"/>
              </a:rPr>
              <a:t>DIVISIONE SEGRETERIA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68360" y="3716280"/>
            <a:ext cx="1152720" cy="720720"/>
          </a:xfrm>
          <a:prstGeom prst="rect">
            <a:avLst/>
          </a:prstGeom>
          <a:noFill/>
          <a:ln w="255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10000"/>
                </a:solidFill>
                <a:latin typeface="Arial"/>
              </a:rPr>
              <a:t>DIVISIONE NORMATIVA E RAPPORTI ISTITUZIONALI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35280" y="3716280"/>
            <a:ext cx="1225800" cy="720720"/>
          </a:xfrm>
          <a:prstGeom prst="rect">
            <a:avLst/>
          </a:prstGeom>
          <a:noFill/>
          <a:ln w="255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10000"/>
                </a:solidFill>
                <a:latin typeface="Arial"/>
              </a:rPr>
              <a:t>DIVISIONE  COOPERAZIONE INTERNAZIONAL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76720" y="3716280"/>
            <a:ext cx="1081080" cy="685800"/>
          </a:xfrm>
          <a:prstGeom prst="rect">
            <a:avLst/>
          </a:prstGeom>
          <a:noFill/>
          <a:ln w="255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10000"/>
                </a:solidFill>
                <a:latin typeface="Arial"/>
              </a:rPr>
              <a:t>DIVISIONE    </a:t>
            </a:r>
            <a:r>
              <a:rPr b="1" lang="it-IT" sz="700" spc="-1" strike="noStrike">
                <a:solidFill>
                  <a:srgbClr val="009999"/>
                </a:solidFill>
                <a:latin typeface="Tahoma"/>
              </a:rPr>
              <a:t>  </a:t>
            </a:r>
            <a:r>
              <a:rPr b="1" lang="it-IT" sz="1000" spc="-1" strike="noStrike">
                <a:solidFill>
                  <a:srgbClr val="010000"/>
                </a:solidFill>
                <a:latin typeface="Arial"/>
              </a:rPr>
              <a:t>ANALISI E GESTIONE DATI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3716280"/>
            <a:ext cx="1152360" cy="649440"/>
          </a:xfrm>
          <a:prstGeom prst="rect">
            <a:avLst/>
          </a:prstGeom>
          <a:noFill/>
          <a:ln w="255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10000"/>
                </a:solidFill>
                <a:latin typeface="Arial"/>
              </a:rPr>
              <a:t>DIVISIONE OPERAZIONI SOSPETTE I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40720" y="3716280"/>
            <a:ext cx="1082520" cy="649440"/>
          </a:xfrm>
          <a:prstGeom prst="rect">
            <a:avLst/>
          </a:prstGeom>
          <a:noFill/>
          <a:ln w="255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10000"/>
                </a:solidFill>
                <a:latin typeface="Arial"/>
              </a:rPr>
              <a:t>DIVISIONE OPERAZIONI SOSPETTE II 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88000" y="2492280"/>
            <a:ext cx="0" cy="865440"/>
          </a:xfrm>
          <a:prstGeom prst="line">
            <a:avLst/>
          </a:prstGeom>
          <a:ln w="1908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47640" y="3357720"/>
            <a:ext cx="6840720" cy="0"/>
          </a:xfrm>
          <a:prstGeom prst="line">
            <a:avLst/>
          </a:prstGeom>
          <a:ln w="1908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47640" y="3357720"/>
            <a:ext cx="0" cy="358560"/>
          </a:xfrm>
          <a:prstGeom prst="line">
            <a:avLst/>
          </a:prstGeom>
          <a:ln w="1908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43280" y="3357720"/>
            <a:ext cx="0" cy="358560"/>
          </a:xfrm>
          <a:prstGeom prst="line">
            <a:avLst/>
          </a:prstGeom>
          <a:ln w="1908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11640" y="3357720"/>
            <a:ext cx="0" cy="358560"/>
          </a:xfrm>
          <a:prstGeom prst="line">
            <a:avLst/>
          </a:prstGeom>
          <a:ln w="1908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651640" y="3357720"/>
            <a:ext cx="0" cy="358560"/>
          </a:xfrm>
          <a:prstGeom prst="line">
            <a:avLst/>
          </a:prstGeom>
          <a:ln w="1908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948360" y="3357720"/>
            <a:ext cx="0" cy="358560"/>
          </a:xfrm>
          <a:prstGeom prst="line">
            <a:avLst/>
          </a:prstGeom>
          <a:ln w="1908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88360" y="3357720"/>
            <a:ext cx="0" cy="358560"/>
          </a:xfrm>
          <a:prstGeom prst="line">
            <a:avLst/>
          </a:prstGeom>
          <a:ln w="1908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88000" y="2924280"/>
            <a:ext cx="936360" cy="0"/>
          </a:xfrm>
          <a:prstGeom prst="line">
            <a:avLst/>
          </a:prstGeom>
          <a:ln w="1908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769080" cy="66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33"/>
                </a:solidFill>
                <a:latin typeface="Arial"/>
              </a:rPr>
              <a:t>I compiti della UIF </a:t>
            </a:r>
            <a:br>
              <a:rPr sz="2800"/>
            </a:b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02920" y="1052640"/>
            <a:ext cx="6985080" cy="54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just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80000"/>
                </a:solidFill>
                <a:latin typeface="Arial"/>
              </a:rPr>
              <a:t>a) Segnalazioni di operazioni sospette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533520" indent="0" algn="just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- potere di sospensione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533520" indent="0" algn="just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- analisi finanziaria (approfondimenti cartolari e </a:t>
            </a: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ispettivi)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533520" indent="0" algn="just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- controlli sul rispetto degli obblighi di segnalazione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533520" indent="0" algn="just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80000"/>
                </a:solidFill>
                <a:latin typeface="Arial"/>
              </a:rPr>
              <a:t>b) Regolamentazione</a:t>
            </a: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533520" indent="0" algn="just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- indicatori di anomalia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533520" indent="0" algn="just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- modelli o schemi di comportamento anomalo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533520" indent="0" algn="just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- istruzioni sul contenuto della SOS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533520" indent="0" algn="just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80000"/>
                </a:solidFill>
                <a:latin typeface="Arial"/>
              </a:rPr>
              <a:t>c) Analisi e studi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533520" indent="0" algn="just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- dati aggregati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533520" indent="0" algn="just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- specifici mezzi di pagamento /aree territoriali /settori </a:t>
            </a: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10000"/>
                </a:solidFill>
                <a:latin typeface="Arial"/>
              </a:rPr>
              <a:t>  economici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533520" indent="0" algn="just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15:38:02Z</dcterms:created>
  <dc:creator>Gara</dc:creator>
  <dc:description/>
  <dc:language>en-US</dc:language>
  <cp:lastModifiedBy>b757100</cp:lastModifiedBy>
  <dcterms:modified xsi:type="dcterms:W3CDTF">2012-06-18T07:56:44Z</dcterms:modified>
  <cp:revision>342</cp:revision>
  <dc:subject/>
  <dc:title>Le segnalazioni di operazioni sospette</dc:title>
</cp:coreProperties>
</file>